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1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2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995D-954C-43B5-8AE6-3E10713E5C1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5B1D-A4B6-4438-A1D2-B1E9597B017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549E-D075-43C9-B28B-C6A440A22D1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CD83-0DF5-4E8F-9369-808CE9AED67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E825-4032-4D5B-A225-DC746AC87A8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E199-304D-459F-BBE4-8FB47B20D74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angan jawap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kumentasi berasal dari perkataan dokumen. </a:t>
            </a:r>
            <a:r>
              <a:rPr b="0" lang="ms-MY" sz="1200" spc="-1" strike="noStrike">
                <a:solidFill>
                  <a:srgbClr val="000000"/>
                </a:solidFill>
                <a:latin typeface="Arial"/>
              </a:rPr>
              <a:t>Dokumen, naskah. Dokumen ini terdiri dalam dua bentuk, yang pertama dalam bentu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ms-MY" sz="1200" spc="-1" strike="noStrike">
                <a:solidFill>
                  <a:srgbClr val="000000"/>
                </a:solidFill>
                <a:latin typeface="Arial"/>
              </a:rPr>
              <a:t>hardcopy, dan kedua dalam bentuk softcopy. Hardcopy biasanya dalam bentuk hasil cetakan, seperti yang biasa kita lihat pada kertas misalny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ms-MY" sz="1200" spc="-1" strike="noStrike">
                <a:solidFill>
                  <a:srgbClr val="000000"/>
                </a:solidFill>
                <a:latin typeface="Arial"/>
              </a:rPr>
              <a:t>Sedangkan softcopy, adalah dalam bentuk yang tidak dapat dilihat oleh manusia secara langsung, melalui alat bantu, seperti penyimpan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ms-MY" sz="1200" spc="-1" strike="noStrike">
                <a:solidFill>
                  <a:srgbClr val="000000"/>
                </a:solidFill>
                <a:latin typeface="Arial"/>
              </a:rPr>
              <a:t>data pada file di disket, sehingga dokumen tersebut boleh dilihat dengan bantuan k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okumentasi perlu dilaksanakan sebagai bukti program yang telah dijalankan di peringkat sekolah. Ini kerana setiap kursus yang dijalank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ggunakan peruntukan LDP Kementerian Pelajaran Malay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okumen perlu didokumentasikan dalam bentuk sistem fail(folder) sebanyak 3 buah. Sistem ini menggunakan folder kulit keras bersaiz 3 in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der perlu ditunjukkan sewaktu pembentangan tajuk ini. Setiap folder perlu dilabel dibahagian depan dan tepi untuk menunjukkan bahag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ng berlain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537A-BE7E-492E-B7EC-393ED9BB267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43FD-16D2-4BB1-A1C2-03CF99889A2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. Semua fail dalam bentuk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. Fasilitator perlu tunjukkan contoh folder kepada peser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3. Sebanyak 3 buah folder perlu dibawa semasa penerangan. Setiap folder bersaiz 3 in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277D-74F8-4528-A9D6-182330C18FC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asilitator perlu mengklik perkataan bergaris untuk hyperlink contoh borang. Fasilitator perlu memberi penerangan berdasarkan contoh bora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ang dib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137A-6370-44E3-9A23-B9919E7E866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1DF6-3C4D-4C3A-9788-5F8164F4315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119E-6AB4-4CB5-979B-721CD1FF759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orang kehadiran Peserta    - Peserta yang tidak hadir perlu ada surat atau kenyataan sama ada berkursus, cuti sakit, cuti bersalin at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uti Rehat Khas (C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70A2-AC42-4714-A084-7F1F451E150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orang kehadiran Peserta    - Peserta yang tidak hadir perlu ada surat atau kenyataan sama ada berkursus, cuti sakit, cuti bersalin at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uti Rehat Khas (C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4D74-9A78-40AB-908E-E91301F9D7B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63A-8EFF-4C18-9DFA-164812B6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F5B-773F-4CE6-A73F-F86A0414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8F3-2C04-4E3C-8DF7-C2DBBA84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2F1-8D8B-41BA-8E21-E46C52D5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1EB2-2DF3-4B3A-B814-9F7479AB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561F-6394-4948-99E9-CBCB1BE1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4759-7B48-4782-BE16-8E6E035B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AB53-30BB-4897-B5DD-D339BD46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00DE-2D77-4F5C-9EF7-E430DCE9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F616-36C3-4112-B83F-95CAFA15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BF0A-EF28-4187-A676-2CB8D64F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7C7-3D3E-411F-93A8-30D9A972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5CBE-E6A8-47D2-883F-9A1133EA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CEA8-4CFD-4538-992F-3EA02ED5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42A8-DCFF-4E9E-B510-DDD2340D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1F9B-1D36-47DA-8937-B3772156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FD8A-413A-4DF6-ABA0-79D08695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B2AC-15EA-4F82-AB36-57F00946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D86B-C4BA-4A78-9BA9-E111F529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7724-35BB-4B99-BC2B-35E1C9A5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51E7-529D-483A-8B64-A4BF2A68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EE865-C05C-466F-8E4F-1434D4E0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2BA-F364-44EA-A1FE-D198FE51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F90B-0BB3-4474-8B22-B3293060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ED3E6-83E6-43F8-9571-B2340E61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85DB-8E54-4457-A5C9-3909B5A2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7E7A1-4F26-45BC-95F7-17CD0229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5AB71-467C-4373-8A17-2582AF97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E0DAA-4BE9-4B7D-BD16-E02E01CA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AEB39-6945-492B-9352-F4D0C6CE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A8B-36FE-40D1-A0CD-5EB527EF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207-A12E-4119-AF74-2ECE9C0F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DB8-5839-4DEC-B13A-E9C29E5F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A39-492B-4B00-8F82-EC1D35DE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7EE-3D1E-4F9F-8A4D-DA8BE7DB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0E7-385F-46B0-8DB4-43DE9D89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1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2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6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C336-5CBF-4BCE-8954-0F40609F8B3F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480"/>
            <a:ext cx="9144000" cy="2946240"/>
          </a:xfrm>
          <a:prstGeom prst="rect">
            <a:avLst/>
          </a:pr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"/>
          <p:cNvSpPr/>
          <p:nvPr/>
        </p:nvSpPr>
        <p:spPr>
          <a:xfrm>
            <a:off x="-14400" y="1932120"/>
            <a:ext cx="9158400" cy="2506680"/>
          </a:xfrm>
          <a:custGeom>
            <a:avLst/>
            <a:gdLst/>
            <a:ahLst/>
            <a:rect l="l" t="t" r="r" b="b"/>
            <a:pathLst>
              <a:path w="5769" h="1579">
                <a:moveTo>
                  <a:pt x="0" y="465"/>
                </a:moveTo>
                <a:cubicBezTo>
                  <a:pt x="722" y="228"/>
                  <a:pt x="1673" y="36"/>
                  <a:pt x="2916" y="18"/>
                </a:cubicBezTo>
                <a:cubicBezTo>
                  <a:pt x="4159" y="0"/>
                  <a:pt x="5348" y="247"/>
                  <a:pt x="5769" y="475"/>
                </a:cubicBezTo>
                <a:lnTo>
                  <a:pt x="5766" y="1579"/>
                </a:lnTo>
                <a:lnTo>
                  <a:pt x="6" y="1579"/>
                </a:lnTo>
                <a:lnTo>
                  <a:pt x="0" y="4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30a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"/>
          <p:cNvSpPr/>
          <p:nvPr/>
        </p:nvSpPr>
        <p:spPr>
          <a:xfrm>
            <a:off x="-4680" y="2046240"/>
            <a:ext cx="9148680" cy="2787840"/>
          </a:xfrm>
          <a:custGeom>
            <a:avLst/>
            <a:gdLst/>
            <a:ahLst/>
            <a:rect l="l" t="t" r="r" b="b"/>
            <a:pathLst>
              <a:path w="5763" h="1756">
                <a:moveTo>
                  <a:pt x="0" y="586"/>
                </a:moveTo>
                <a:cubicBezTo>
                  <a:pt x="693" y="340"/>
                  <a:pt x="1521" y="0"/>
                  <a:pt x="2929" y="18"/>
                </a:cubicBezTo>
                <a:cubicBezTo>
                  <a:pt x="4337" y="36"/>
                  <a:pt x="5292" y="322"/>
                  <a:pt x="5763" y="593"/>
                </a:cubicBezTo>
                <a:lnTo>
                  <a:pt x="5763" y="1756"/>
                </a:lnTo>
                <a:lnTo>
                  <a:pt x="0" y="1752"/>
                </a:lnTo>
                <a:lnTo>
                  <a:pt x="0" y="58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30a484"/>
              </a:gs>
              <a:gs pos="100000">
                <a:srgbClr val="164b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FAF3-89EF-45B3-9E27-9D393B53355D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247680"/>
          <a:ext cx="9144000" cy="115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7680"/>
                    <a:ext cx="9144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0a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3240" y="963720"/>
            <a:ext cx="9140760" cy="461880"/>
          </a:xfrm>
          <a:custGeom>
            <a:avLst/>
            <a:gdLst/>
            <a:ahLst/>
            <a:rect l="l" t="t" r="r" b="b"/>
            <a:pathLst>
              <a:path w="5764" h="291">
                <a:moveTo>
                  <a:pt x="0" y="290"/>
                </a:moveTo>
                <a:lnTo>
                  <a:pt x="1" y="193"/>
                </a:lnTo>
                <a:cubicBezTo>
                  <a:pt x="305" y="150"/>
                  <a:pt x="1172" y="50"/>
                  <a:pt x="1833" y="25"/>
                </a:cubicBezTo>
                <a:cubicBezTo>
                  <a:pt x="2494" y="0"/>
                  <a:pt x="3312" y="15"/>
                  <a:pt x="3966" y="41"/>
                </a:cubicBezTo>
                <a:cubicBezTo>
                  <a:pt x="4620" y="68"/>
                  <a:pt x="5460" y="142"/>
                  <a:pt x="5760" y="184"/>
                </a:cubicBezTo>
                <a:lnTo>
                  <a:pt x="5764" y="291"/>
                </a:lnTo>
                <a:lnTo>
                  <a:pt x="0" y="2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47CB-C946-4BF5-A6AF-04A923D1CC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hyperlink" Target="file:///Bahan_Edaran/BAHAN%20EDARAN%20CARTA%20ALIRAN%20PELAKSANAAN%20LDP.doc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Bahan_Hyperlink/Pelaporan%20kursus.doc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Bahan_Edaran/Contoh%20Sijil1.doc" TargetMode="External"/><Relationship Id="rId2" Type="http://schemas.openxmlformats.org/officeDocument/2006/relationships/hyperlink" Target="file:///Bahan_Hyperlink/sijil_penghargaan.doc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Bahan_Edaran/PPbil06.pdf" TargetMode="External"/><Relationship Id="rId2" Type="http://schemas.openxmlformats.org/officeDocument/2006/relationships/hyperlink" Target="file:///Bahan_Hyperlink/Pelantikan%20Jawatankuasa%20LDP.doc" TargetMode="External"/><Relationship Id="rId3" Type="http://schemas.openxmlformats.org/officeDocument/2006/relationships/hyperlink" Target="file:///Bahan_Hyperlink/Surat_Lantikan_AJK.doc" TargetMode="External"/><Relationship Id="rId4" Type="http://schemas.openxmlformats.org/officeDocument/2006/relationships/hyperlink" Target="file:///Bahan_Edaran/Surat%20Panggilan%20Mesyuarat.doc" TargetMode="External"/><Relationship Id="rId5" Type="http://schemas.openxmlformats.org/officeDocument/2006/relationships/hyperlink" Target="file:///Bahan_Edaran/Minit%20Mesyuarat.doc" TargetMode="External"/><Relationship Id="rId6" Type="http://schemas.openxmlformats.org/officeDocument/2006/relationships/hyperlink" Target="file:///Bahan_Edaran/Perancangan%20Tahunan.doc" TargetMode="External"/><Relationship Id="rId7" Type="http://schemas.openxmlformats.org/officeDocument/2006/relationships/hyperlink" Target="file:///Bahan_Hyperlink/Peruntukan%20Kewangan.xls" TargetMode="External"/><Relationship Id="rId8" Type="http://schemas.openxmlformats.org/officeDocument/2006/relationships/hyperlink" Target="file:///Bahan_Hyperlink/carta_aliran_operasi.doc" TargetMode="External"/><Relationship Id="rId9" Type="http://schemas.openxmlformats.org/officeDocument/2006/relationships/hyperlink" Target="file:///Bahan_Hyperlink/CARTA%20ALIRAN%20Pelan%20Tindakan%20LDP.doc" TargetMode="Externa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Bahan_Hyperlink/MATRIK%20KOMPETENSI%20GURU%202.doc" TargetMode="External"/><Relationship Id="rId2" Type="http://schemas.openxmlformats.org/officeDocument/2006/relationships/hyperlink" Target="file:///Bahan_Hyperlink/Borang%20Senarai%20Semak%20Pengurusan%20Kewangan.doc" TargetMode="External"/><Relationship Id="rId3" Type="http://schemas.openxmlformats.org/officeDocument/2006/relationships/hyperlink" Target="file:///Bahan_Hyperlink/Borang%20Senarai%20Semak%20Pengurusan%20Kewangan.doc" TargetMode="External"/><Relationship Id="rId4" Type="http://schemas.openxmlformats.org/officeDocument/2006/relationships/hyperlink" Target="file:///Bahan_Hyperlink/Profil%20Penceramah.doc" TargetMode="External"/><Relationship Id="rId5" Type="http://schemas.openxmlformats.org/officeDocument/2006/relationships/hyperlink" Target="file:///Bahan_Hyperlink/Profil%20Peserta.doc" TargetMode="External"/><Relationship Id="rId6" Type="http://schemas.openxmlformats.org/officeDocument/2006/relationships/hyperlink" Target="file:///Bahan_Hyperlink/Borang%20Kehadiran.doc" TargetMode="External"/><Relationship Id="rId7" Type="http://schemas.openxmlformats.org/officeDocument/2006/relationships/hyperlink" Target="file:///Bahan_Hyperlink/Borang%20Penilaian%20Program.doc" TargetMode="External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Bahan_Hyperlink/Borang%20Pemantauan.doc" TargetMode="External"/><Relationship Id="rId2" Type="http://schemas.openxmlformats.org/officeDocument/2006/relationships/hyperlink" Target="file:///Bahan_Hyperlink/Senarai%20Semak%20Kandungan%20Fail.doc" TargetMode="External"/><Relationship Id="rId3" Type="http://schemas.openxmlformats.org/officeDocument/2006/relationships/hyperlink" Target="file:///Bahan_Hyperlink/Pelaporan%20kursus.doc" TargetMode="External"/><Relationship Id="rId4" Type="http://schemas.openxmlformats.org/officeDocument/2006/relationships/hyperlink" Target="file:///Bahan_Edaran/Kad%20Pelaporan.doc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Bahan_Hyperlink/Kertas%20kerja.doc" TargetMode="External"/><Relationship Id="rId2" Type="http://schemas.openxmlformats.org/officeDocument/2006/relationships/hyperlink" Target="file:///Bahan_Edaran/Nota%20Minta%20Sek%202009.doc" TargetMode="External"/><Relationship Id="rId3" Type="http://schemas.openxmlformats.org/officeDocument/2006/relationships/hyperlink" Target="file:///Bahan_Edaran/Invois.doc" TargetMode="External"/><Relationship Id="rId4" Type="http://schemas.openxmlformats.org/officeDocument/2006/relationships/hyperlink" Target="file:///Bahan_Edaran/Surat%20Panggilan%20Kursus.doc" TargetMode="External"/><Relationship Id="rId5" Type="http://schemas.openxmlformats.org/officeDocument/2006/relationships/hyperlink" Target="file:///Bahan_Hyperlink/Profil%20Penceramah.doc" TargetMode="External"/><Relationship Id="rId6" Type="http://schemas.openxmlformats.org/officeDocument/2006/relationships/hyperlink" Target="file:///Bahan_Hyperlink/Profil%20Peserta.doc" TargetMode="External"/><Relationship Id="rId7" Type="http://schemas.openxmlformats.org/officeDocument/2006/relationships/hyperlink" Target="file:///Bahan_Hyperlink/Borang%20Kehadiran.doc" TargetMode="External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ahan_Hyperlink/Pelaporan%20kursus.doc" TargetMode="External"/><Relationship Id="rId2" Type="http://schemas.openxmlformats.org/officeDocument/2006/relationships/hyperlink" Target="file:///Bahan_Hyperlink/Borang%20Penilaian%20Program.doc" TargetMode="External"/><Relationship Id="rId3" Type="http://schemas.openxmlformats.org/officeDocument/2006/relationships/hyperlink" Target="file:///Bahan_Hyperlink/Borang%20Penilaian%20Program.doc" TargetMode="External"/><Relationship Id="rId4" Type="http://schemas.openxmlformats.org/officeDocument/2006/relationships/hyperlink" Target="file:///Bahan_Hyperlink/Borang%20Penilaian%20Program.doc" TargetMode="External"/><Relationship Id="rId5" Type="http://schemas.openxmlformats.org/officeDocument/2006/relationships/hyperlink" Target="file:///Bahan_Hyperlink/Borang%20Pemantauan.doc" TargetMode="External"/><Relationship Id="rId6" Type="http://schemas.openxmlformats.org/officeDocument/2006/relationships/hyperlink" Target="file:///Bahan_Hyperlink/Borang%20Pemantauan.doc" TargetMode="External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858000" cy="1523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  <a:ea typeface="宋体"/>
              </a:rPr>
              <a:t>LATIHAN DALAM PERKHIDMATA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99840" y="52574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Heavy"/>
                <a:ea typeface="宋体"/>
              </a:rPr>
              <a:t>SCHOOL - BAS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00400" y="2971800"/>
            <a:ext cx="562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KUMENTAS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e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0"/>
          <a:ext cx="914400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0a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40" y="963720"/>
            <a:ext cx="9140760" cy="461880"/>
          </a:xfrm>
          <a:custGeom>
            <a:avLst/>
            <a:gdLst/>
            <a:ahLst/>
            <a:rect l="l" t="t" r="r" b="b"/>
            <a:pathLst>
              <a:path w="5764" h="291">
                <a:moveTo>
                  <a:pt x="0" y="290"/>
                </a:moveTo>
                <a:lnTo>
                  <a:pt x="1" y="193"/>
                </a:lnTo>
                <a:cubicBezTo>
                  <a:pt x="305" y="150"/>
                  <a:pt x="1172" y="50"/>
                  <a:pt x="1833" y="25"/>
                </a:cubicBezTo>
                <a:cubicBezTo>
                  <a:pt x="2494" y="0"/>
                  <a:pt x="3312" y="15"/>
                  <a:pt x="3966" y="41"/>
                </a:cubicBezTo>
                <a:cubicBezTo>
                  <a:pt x="4620" y="68"/>
                  <a:pt x="5460" y="142"/>
                  <a:pt x="5760" y="184"/>
                </a:cubicBezTo>
                <a:lnTo>
                  <a:pt x="5764" y="291"/>
                </a:lnTo>
                <a:lnTo>
                  <a:pt x="0" y="2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1266120" y="0"/>
            <a:ext cx="647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Bengkel Pelan Tindak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1338120"/>
            <a:ext cx="8991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ahoma"/>
              </a:rPr>
              <a:t>Bahagikan kepada 2 kumpulan, sekolah PTJ dan sekol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ahoma"/>
              </a:rPr>
              <a:t>bukan PTJ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ELAN TINDAKAN KURSUS LDP(SEKOLAH  PTJ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ahoma"/>
              </a:rPr>
              <a:t>2. PELAN TINDAKAN KURSUS LDP (SEKOLAH BUKAN PTJ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76360" y="5086440"/>
          <a:ext cx="7848360" cy="127620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2590920"/>
                <a:gridCol w="1981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宋体"/>
                          <a:hlinkClick r:id="rId3"/>
                        </a:rPr>
                        <a:t>PERANCANGAN PR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ELAKSANA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TEMPO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NDAK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55520" y="3048120"/>
            <a:ext cx="89312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rahan:Bincangkan satu pelan tindakan untuk satu kurs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i bawah berpandukan jadual berik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) Kreatif Dan inovasi Dalam P&amp;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i) Kursus Pencegahan Virus Komputer dan Keselamatan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52280" y="1371600"/>
          <a:ext cx="8839440" cy="4898880"/>
        </p:xfrm>
        <a:graphic>
          <a:graphicData uri="http://schemas.openxmlformats.org/drawingml/2006/table">
            <a:tbl>
              <a:tblPr/>
              <a:tblGrid>
                <a:gridCol w="1209960"/>
                <a:gridCol w="7629480"/>
              </a:tblGrid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Pelaporan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sus School Based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1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fi-FI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li setahun – </a:t>
                      </a:r>
                      <a:r>
                        <a:rPr b="1" lang="fi-FI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pril , Julai &amp; Oktober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poran Bergamba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d Pelaporan (Kad Bir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poran Kursus KM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0" y="0"/>
          <a:ext cx="9144000" cy="115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0a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515160" y="152280"/>
            <a:ext cx="459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fff66"/>
                </a:solidFill>
                <a:latin typeface="Tahoma"/>
              </a:rPr>
              <a:t>B. PELAPORA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47600" y="2209680"/>
          <a:ext cx="8839080" cy="4197600"/>
        </p:xfrm>
        <a:graphic>
          <a:graphicData uri="http://schemas.openxmlformats.org/drawingml/2006/table">
            <a:tbl>
              <a:tblPr/>
              <a:tblGrid>
                <a:gridCol w="1143000"/>
                <a:gridCol w="76960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jenis sij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Sijil Kehadiran </a:t>
                      </a:r>
                      <a:r>
                        <a:rPr b="1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Diberikan kepada guru-guru yang hadir kursus/bengkel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Sijil Penghargaan </a:t>
                      </a:r>
                      <a:r>
                        <a:rPr b="1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Diberikan kepada Penceramah / Uruset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jil Kehadiran </a:t>
                      </a:r>
                      <a:r>
                        <a:rPr b="1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keluarkan oleh BPG (setahun sekal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jil Penghargaan dikeluarkan oleh pihak sekola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0" y="0"/>
          <a:ext cx="9144000" cy="115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0a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66"/>
                </a:solidFill>
                <a:latin typeface="Tahoma"/>
              </a:rPr>
              <a:t>C. PENSIJILAN DAN PENGIKTIRAFA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2946240"/>
          </a:xfrm>
          <a:prstGeom prst="rect">
            <a:avLst/>
          </a:pr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-14400" y="1932120"/>
            <a:ext cx="9158400" cy="2506680"/>
          </a:xfrm>
          <a:custGeom>
            <a:avLst/>
            <a:gdLst/>
            <a:ahLst/>
            <a:rect l="l" t="t" r="r" b="b"/>
            <a:pathLst>
              <a:path w="5769" h="1579">
                <a:moveTo>
                  <a:pt x="0" y="465"/>
                </a:moveTo>
                <a:cubicBezTo>
                  <a:pt x="722" y="228"/>
                  <a:pt x="1673" y="36"/>
                  <a:pt x="2916" y="18"/>
                </a:cubicBezTo>
                <a:cubicBezTo>
                  <a:pt x="4159" y="0"/>
                  <a:pt x="5348" y="247"/>
                  <a:pt x="5769" y="475"/>
                </a:cubicBezTo>
                <a:lnTo>
                  <a:pt x="5766" y="1579"/>
                </a:lnTo>
                <a:lnTo>
                  <a:pt x="6" y="1579"/>
                </a:lnTo>
                <a:lnTo>
                  <a:pt x="0" y="4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30a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-4680" y="2046240"/>
            <a:ext cx="9148680" cy="2787840"/>
          </a:xfrm>
          <a:custGeom>
            <a:avLst/>
            <a:gdLst/>
            <a:ahLst/>
            <a:rect l="l" t="t" r="r" b="b"/>
            <a:pathLst>
              <a:path w="5763" h="1756">
                <a:moveTo>
                  <a:pt x="0" y="586"/>
                </a:moveTo>
                <a:cubicBezTo>
                  <a:pt x="693" y="340"/>
                  <a:pt x="1521" y="0"/>
                  <a:pt x="2929" y="18"/>
                </a:cubicBezTo>
                <a:cubicBezTo>
                  <a:pt x="4337" y="36"/>
                  <a:pt x="5292" y="322"/>
                  <a:pt x="5763" y="593"/>
                </a:cubicBezTo>
                <a:lnTo>
                  <a:pt x="5763" y="1756"/>
                </a:lnTo>
                <a:lnTo>
                  <a:pt x="0" y="1752"/>
                </a:lnTo>
                <a:lnTo>
                  <a:pt x="0" y="58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30a484"/>
              </a:gs>
              <a:gs pos="100000">
                <a:srgbClr val="164b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宋体"/>
              </a:rPr>
              <a:t>TERIMA  KASI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280" y="457200"/>
            <a:ext cx="325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  <a:ea typeface="宋体"/>
              </a:rPr>
              <a:t>SEKIAN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784836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APA DOKUMENTASI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MENGAPA PERLU DOKUMENTASI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BAGAIMANA / APA YANG DIDOKUMENTASIKAN?</a:t>
            </a:r>
            <a:br>
              <a:rPr sz="66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522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宋体"/>
              </a:rPr>
              <a:t>DOKUMENTASI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0440" y="14256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宋体"/>
              </a:rPr>
              <a:t>KANDUNGA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828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haroni"/>
                <a:ea typeface="宋体"/>
              </a:rPr>
              <a:t>A.</a:t>
            </a:r>
            <a:r>
              <a:rPr b="0" lang="en-US" sz="5400" spc="-1" strike="noStrike">
                <a:solidFill>
                  <a:srgbClr val="000000"/>
                </a:solidFill>
                <a:latin typeface="Aharoni"/>
                <a:ea typeface="宋体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haroni"/>
                <a:ea typeface="宋体"/>
              </a:rPr>
              <a:t>PENGURUSAN FAI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haroni"/>
                <a:ea typeface="宋体"/>
              </a:rPr>
              <a:t>B.</a:t>
            </a:r>
            <a:r>
              <a:rPr b="0" lang="en-US" sz="5400" spc="-1" strike="noStrike">
                <a:solidFill>
                  <a:srgbClr val="000000"/>
                </a:solidFill>
                <a:latin typeface="Aharoni"/>
                <a:ea typeface="宋体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haroni"/>
                <a:ea typeface="宋体"/>
              </a:rPr>
              <a:t>PELAPOR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haroni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haroni"/>
                <a:ea typeface="宋体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haroni"/>
                <a:ea typeface="宋体"/>
              </a:rPr>
              <a:t>PENSIJIL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831960" indent="-83196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haron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haroni"/>
                <a:ea typeface="宋体"/>
              </a:rPr>
              <a:t>PENGURUSAN FAI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831960" indent="-83196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31960" indent="-831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  <a:ea typeface="宋体"/>
              </a:rPr>
              <a:t>FAIL 1 – FAIL PENGURUS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31960" indent="-831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  <a:ea typeface="宋体"/>
              </a:rPr>
              <a:t>FAIL 2 – FAIL DOKUMEN LD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31960" indent="-831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  <a:ea typeface="宋体"/>
              </a:rPr>
              <a:t>FAIL 3 – FAIL PELAKSANAAN LD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31960" indent="-831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宋体"/>
              </a:rPr>
              <a:t>Semua fail dalam bentuk FOLD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31960" indent="-831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31960" indent="-831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ras Bold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si Kandungan F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752400"/>
          <a:ext cx="8686800" cy="5952960"/>
        </p:xfrm>
        <a:graphic>
          <a:graphicData uri="http://schemas.openxmlformats.org/drawingml/2006/table">
            <a:tbl>
              <a:tblPr/>
              <a:tblGrid>
                <a:gridCol w="1371600"/>
                <a:gridCol w="7315200"/>
              </a:tblGrid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Fail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Pengurusan LD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Surat Pekeliling LDP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Punca Kua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Jawatankuasa </a:t>
                      </a:r>
                      <a:r>
                        <a:rPr b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LDP </a:t>
                      </a:r>
                      <a:r>
                        <a:rPr b="0" i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Lamp.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Surat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Lantikan LDP </a:t>
                      </a:r>
                      <a:r>
                        <a:rPr b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Sekol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Surat Panggilan Mesyuarat </a:t>
                      </a:r>
                      <a:r>
                        <a:rPr b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Minit Mesyuarat </a:t>
                      </a:r>
                      <a:r>
                        <a:rPr b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Perancangan Tahunan Kursus </a:t>
                      </a:r>
                      <a:r>
                        <a:rPr b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LDP </a:t>
                      </a:r>
                      <a:r>
                        <a:rPr b="0" i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Lamp.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Kutipan Maklumat LDP (KMLDP) Format </a:t>
                      </a:r>
                      <a:r>
                        <a:rPr b="1" i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Excel </a:t>
                      </a:r>
                      <a:r>
                        <a:rPr b="0" i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Lamp.1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Peruntukan Kewangan </a:t>
                      </a:r>
                      <a:r>
                        <a:rPr b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LD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PTJ / PP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nan Sub Waran (Sekolah PTJ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Carta Alir Pengoperasian </a:t>
                      </a:r>
                      <a:r>
                        <a:rPr b="1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ksanaan Kurs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/s 6 Garis Pandua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Carta Alir Pelan Tindakan</a:t>
                      </a:r>
                      <a:r>
                        <a:rPr b="1" i="1" lang="fi-FI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04840" y="157320"/>
          <a:ext cx="8839080" cy="6529320"/>
        </p:xfrm>
        <a:graphic>
          <a:graphicData uri="http://schemas.openxmlformats.org/drawingml/2006/table">
            <a:tbl>
              <a:tblPr/>
              <a:tblGrid>
                <a:gridCol w="1208160"/>
                <a:gridCol w="7630920"/>
              </a:tblGrid>
              <a:tr h="64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Fail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4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Dokumen 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is Panduan Pengoperasian Pelaksanaan 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h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Soal Selidik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jian Keperluan /Cadangan Kursus LDP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2a &amp; 2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h Kertas Kerja Kursus</a:t>
                      </a: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h Borang Permohanan Kursus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h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Senarai Semak Permohonan Pesanan Tempatan (L.O)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h Borang Profil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Penceramah/ Fasilitator Jurulatih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h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Borang Profil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erta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h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Borang Kehadiran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erta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h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Borang Penilaian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62000" y="824040"/>
          <a:ext cx="8839080" cy="5021280"/>
        </p:xfrm>
        <a:graphic>
          <a:graphicData uri="http://schemas.openxmlformats.org/drawingml/2006/table">
            <a:tbl>
              <a:tblPr/>
              <a:tblGrid>
                <a:gridCol w="1207800"/>
                <a:gridCol w="76312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Fail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4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Dokumen 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h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Borang Pemantauan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1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h Fail/Borang Tapak KMLDP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1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h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Senarai Semak Kandungan Fail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1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Laporan Kursus </a:t>
                      </a:r>
                      <a:r>
                        <a:rPr b="1" lang="fi-FI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kali setah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i-FI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fi-FI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PRIL , JULAI &amp; OKTOBER </a:t>
                      </a:r>
                      <a:r>
                        <a:rPr b="1" lang="fi-FI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1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h Sijil Kehadiran Oleh BP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jil Penghargaan oleh sekol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h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Kad Bir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52280" y="193680"/>
          <a:ext cx="8839440" cy="6435720"/>
        </p:xfrm>
        <a:graphic>
          <a:graphicData uri="http://schemas.openxmlformats.org/drawingml/2006/table">
            <a:tbl>
              <a:tblPr/>
              <a:tblGrid>
                <a:gridCol w="1209960"/>
                <a:gridCol w="7629480"/>
              </a:tblGrid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Fail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4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Pelaksanaan 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34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umentasi Kurs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Kertas Kerja/Latihan/Seminar/Bengkel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Nota Minta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O (Pesanan tempata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arai Pese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3"/>
                        </a:rPr>
                        <a:t>Resit / invo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to (rakaman gamb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at Kebenaran PPD/Pengetua/Guru Besa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Surat Panggilan Kursus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Latihan/Seminar/Bengk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Borang Profil Penceramah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Fasilitator Jurulatih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Borang Profil Peserta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Borang Kehadiran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erta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tipan Maklumat LDP (KMLDP) – </a:t>
                      </a:r>
                      <a:r>
                        <a:rPr b="1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1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52280" y="193680"/>
          <a:ext cx="8839440" cy="3844440"/>
        </p:xfrm>
        <a:graphic>
          <a:graphicData uri="http://schemas.openxmlformats.org/drawingml/2006/table">
            <a:tbl>
              <a:tblPr/>
              <a:tblGrid>
                <a:gridCol w="1209960"/>
                <a:gridCol w="7629480"/>
              </a:tblGrid>
              <a:tr h="89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Fail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4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Pelaksanaan 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5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Laporan Kursus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 - </a:t>
                      </a:r>
                      <a:r>
                        <a:rPr b="0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copy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1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mpiran gambar </a:t>
                      </a:r>
                      <a:r>
                        <a:rPr b="1" i="1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jika perlu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Borang Penilaian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 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Program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 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Laporan Pemantauan</a:t>
                      </a:r>
                      <a:r>
                        <a:rPr b="0" lang="fi-FI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 </a:t>
                      </a:r>
                      <a:r>
                        <a:rPr b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r>
                        <a:rPr b="0" i="1" lang="fi-F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.1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9:27:09Z</dcterms:created>
  <dc:creator>user</dc:creator>
  <dc:description/>
  <dc:language>en-US</dc:language>
  <cp:lastModifiedBy>PC</cp:lastModifiedBy>
  <dcterms:modified xsi:type="dcterms:W3CDTF">2009-09-09T08:46:58Z</dcterms:modified>
  <cp:revision>78</cp:revision>
  <dc:subject/>
  <dc:title>KAD PELAPORAN</dc:title>
</cp:coreProperties>
</file>