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A2E-F751-4A1D-9AF2-FEA37B8C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F56-344E-44C5-8E04-F66A7B0D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8C5-CA53-46BE-95A7-58163C3A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B92-6434-43DB-8707-4C13850B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1BB4-2242-4C10-8A73-209E01FC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7E38-C297-4AE2-A322-6CE1EF3D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6399-55EE-4AB7-8A1E-26982711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07DA-081F-45E5-8C08-45141FA8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F6CF-9C5E-4ED6-90C7-14457850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0614-B069-42C4-882D-90EC889E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B4FD-0C14-4C7B-B50B-020C5F1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A2A-8AAD-48F4-BC31-7B3A9548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054A-5D30-45F6-8573-C089057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1656-BF81-4AF6-A16F-127B1C16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1081-D28C-4245-A4D0-0F9E0ED0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20F7-14F0-4373-B55C-46461460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8C2D-7632-4CB7-8E22-464D7B78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0D64-1540-4085-A597-A1B08FF2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7A23B-1235-40E8-B12F-46805607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0A91-1213-42C7-B4B7-DAFCF226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3F71E-1F51-4446-BAE5-CC52BFD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AB2C-DC44-4E42-98C5-1D2B45F2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948-9478-46D1-9FAC-90CB6F0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CCA51-15EB-4298-A9CE-EB37A9B2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6868-CD93-484A-9D52-E9E11407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22A0-E0DC-4555-8D43-F51F906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0D1F9-E287-4049-9465-33762D5F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0879-9AC9-4CE1-A7C5-730C39E0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814C-42E5-4CF0-A3B1-8E98B0D7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C4A8-7CCA-48A7-A01C-DA367A4C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CB55-E5C4-4C74-8CBE-EC20FAC0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C4EC-0268-4666-AFA6-E5E99ACE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DE3C-BFE1-4646-B487-F7309559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B09-0F40-45AC-97FB-E4DBB119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9B74-E63B-4E93-BD38-C06C880B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9FC2-BD51-4BD3-B174-35B271D5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B403-08E1-4301-A69B-822614CE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0292-78E7-4205-998B-54AE4A10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EEC76-C1D3-4B4D-BD79-491F98DC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FAAD-E265-4C6D-A12E-1132544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F6F7-87B2-45E7-8A37-9A379D1C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A4AB-1FBC-4DAD-95C0-82C59DD3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91D5-1C0E-433D-8525-380E2511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EF1AA-F2FB-48E3-A3B2-190760FE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29B-128C-44B9-B6C3-F48684DE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6255B-7941-4143-8F9C-62CE6E1B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9BB1-93C6-4C2E-9EA0-59F5A2FD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246C-D09C-4762-9541-F8FA86DE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338FA-945C-40B3-B718-0AEB7CF9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1437F-9C96-40AF-BA8B-2DC10241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885C1-0722-4D1E-BA89-945F2BAE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3D38-B136-478F-9462-B918BE90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723FF-3B75-47D7-A601-C9AB923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A835-9672-47AD-B609-F0FFA8FC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6495F-59CB-48DF-9405-AE956DB5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047-4ADE-4159-98C4-EA7A319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4D0D7-86B9-4E4B-9B35-1D8872E7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A79EB-07EB-4A48-A2D6-BE5FB8B5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F12BA-06AC-4462-AF16-9297518F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5A31D-B8E0-4A06-A43B-37560A87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A9E4-4DCC-4E5D-B04E-56A736AE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7C98F-666D-4028-A42D-81EEA9A1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0EA88-BAFF-475A-BF6B-C12FD3D9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DD3C3-2D0D-4049-BFEB-22A82BE0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EBB49-61E7-41AF-AB7D-CC565383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9990D-C151-4576-9968-E51C18E8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2B8-AC3F-41DF-A373-B6AF6510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CB15-1FE7-4437-972C-9F6F17CB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0F38C-12DB-402F-B1EB-8B8F8C6C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06973-A8BE-464A-A465-9A226B79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0CC-688C-4F7B-8B79-16E89C19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10D-458E-48E2-AE4A-24CB1F0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6018-3622-4BA1-ADA2-726D969CAD52}" type="slidenum">
              <a:rPr b="0" lang="en-MY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AA66-41F1-4600-8B6C-9B227BE277BA}" type="slidenum">
              <a:rPr b="0" lang="en-MY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6949-CF10-4DC4-AD78-CE6D6F201033}" type="slidenum">
              <a:rPr b="0" lang="en-MY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435F-715E-47DC-9D70-32831DE8EA9F}" type="slidenum">
              <a:rPr b="0" lang="en-MY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A163-4BEB-4169-8828-B8D095C60A4D}" type="slidenum">
              <a:rPr b="0" lang="en-MY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12FB-03F9-4C73-82CF-A66BC794F68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C:\Users\Compaq\Documents\KAJIAN KEPERLUAN\Lampiran 2 - instrumen pernilaian kendiri.doc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C:\Users\Compaq\Documents\KAJIAN KEPERLUAN\Lampiran 3  - ANALISIS KEPERLUAN LATIHAN.doc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C:\Users\Compaq\Documents\KAJIAN KEPERLUAN\Lampiran 4 -Contoh kurus.doc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C:\Users\Compaq\Documents\KAJIAN KEPERLUAN\LAMPIRAN 1 - BIDANG LATIHAN DAN KANDUNGAN KURSUS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357960" y="5265720"/>
            <a:ext cx="1357200" cy="116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3"/>
          <p:cNvGraphicFramePr/>
          <p:nvPr/>
        </p:nvGraphicFramePr>
        <p:xfrm>
          <a:off x="1285920" y="5235480"/>
          <a:ext cx="1214280" cy="11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5235480"/>
                    <a:ext cx="121428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Title 5" descr=""/>
          <p:cNvPicPr/>
          <p:nvPr/>
        </p:nvPicPr>
        <p:blipFill>
          <a:blip r:embed="rId4"/>
          <a:stretch/>
        </p:blipFill>
        <p:spPr>
          <a:xfrm>
            <a:off x="401760" y="353880"/>
            <a:ext cx="81025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0" name="Action Button: Information 2">
            <a:hlinkClick r:id="rId2"/>
          </p:cNvPr>
          <p:cNvSpPr/>
          <p:nvPr/>
        </p:nvSpPr>
        <p:spPr>
          <a:xfrm>
            <a:off x="928800" y="2428920"/>
            <a:ext cx="1357200" cy="1643040"/>
          </a:xfrm>
          <a:custGeom>
            <a:avLst/>
            <a:gdLst>
              <a:gd name="textAreaLeft" fmla="*/ 87840 w 1357200"/>
              <a:gd name="textAreaRight" fmla="*/ 1269360 w 1357200"/>
              <a:gd name="textAreaTop" fmla="*/ 87840 h 1643040"/>
              <a:gd name="textAreaBottom" fmla="*/ 1555200 h 1643040"/>
            </a:gdLst>
            <a:ahLst/>
            <a:rect l="textAreaLeft" t="textAreaTop" r="textAreaRight" b="textAreaBottom"/>
            <a:pathLst>
              <a:path w="21600" h="26148">
                <a:moveTo>
                  <a:pt x="0" y="0"/>
                </a:moveTo>
                <a:lnTo>
                  <a:pt x="21600" y="0"/>
                </a:lnTo>
                <a:lnTo>
                  <a:pt x="21600" y="26148"/>
                </a:lnTo>
                <a:lnTo>
                  <a:pt x="0" y="26148"/>
                </a:lnTo>
                <a:close/>
              </a:path>
              <a:path fill="lightenLess" w="21600" h="261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48">
                <a:moveTo>
                  <a:pt x="21600" y="0"/>
                </a:moveTo>
                <a:lnTo>
                  <a:pt x="21600" y="26148"/>
                </a:lnTo>
                <a:lnTo>
                  <a:pt x="20200" y="24748"/>
                </a:lnTo>
                <a:lnTo>
                  <a:pt x="20200" y="1400"/>
                </a:lnTo>
                <a:close/>
              </a:path>
              <a:path fill="darkenLess" w="21600" h="26148">
                <a:moveTo>
                  <a:pt x="21600" y="26148"/>
                </a:moveTo>
                <a:lnTo>
                  <a:pt x="0" y="26148"/>
                </a:lnTo>
                <a:lnTo>
                  <a:pt x="1400" y="24748"/>
                </a:lnTo>
                <a:lnTo>
                  <a:pt x="20200" y="24748"/>
                </a:lnTo>
                <a:close/>
              </a:path>
              <a:path fill="lighten" w="21600" h="26148">
                <a:moveTo>
                  <a:pt x="0" y="261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48"/>
                </a:lnTo>
                <a:close/>
              </a:path>
              <a:path fill="darken" w="21600" h="26148">
                <a:moveTo>
                  <a:pt x="10800" y="606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148">
                <a:moveTo>
                  <a:pt x="10800" y="644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148">
                <a:moveTo>
                  <a:pt x="8224" y="10498"/>
                </a:moveTo>
                <a:lnTo>
                  <a:pt x="12088" y="10498"/>
                </a:lnTo>
                <a:lnTo>
                  <a:pt x="12088" y="17495"/>
                </a:lnTo>
                <a:lnTo>
                  <a:pt x="13376" y="17495"/>
                </a:lnTo>
                <a:lnTo>
                  <a:pt x="13376" y="18418"/>
                </a:lnTo>
                <a:lnTo>
                  <a:pt x="8224" y="18418"/>
                </a:lnTo>
                <a:lnTo>
                  <a:pt x="8224" y="17495"/>
                </a:lnTo>
                <a:lnTo>
                  <a:pt x="9512" y="17495"/>
                </a:lnTo>
                <a:lnTo>
                  <a:pt x="9512" y="11403"/>
                </a:lnTo>
                <a:lnTo>
                  <a:pt x="8224" y="11403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Rectangle 3" descr=""/>
          <p:cNvPicPr/>
          <p:nvPr/>
        </p:nvPicPr>
        <p:blipFill>
          <a:blip r:embed="rId3"/>
          <a:stretch/>
        </p:blipFill>
        <p:spPr>
          <a:xfrm>
            <a:off x="-96840" y="4065480"/>
            <a:ext cx="3876840" cy="542880"/>
          </a:xfrm>
          <a:prstGeom prst="rect">
            <a:avLst/>
          </a:prstGeom>
          <a:ln w="0">
            <a:noFill/>
          </a:ln>
        </p:spPr>
      </p:pic>
      <p:pic>
        <p:nvPicPr>
          <p:cNvPr id="292" name="Rectangle 5" descr=""/>
          <p:cNvPicPr/>
          <p:nvPr/>
        </p:nvPicPr>
        <p:blipFill>
          <a:blip r:embed="rId4"/>
          <a:stretch/>
        </p:blipFill>
        <p:spPr>
          <a:xfrm>
            <a:off x="3902040" y="4065480"/>
            <a:ext cx="4052880" cy="542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714240" y="4714920"/>
            <a:ext cx="1785960" cy="28584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mpiran 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5000760" y="4714920"/>
            <a:ext cx="1785960" cy="28584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mpiran 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Action Button: Information 9">
            <a:hlinkClick r:id="rId5"/>
          </p:cNvPr>
          <p:cNvSpPr/>
          <p:nvPr/>
        </p:nvSpPr>
        <p:spPr>
          <a:xfrm>
            <a:off x="5000760" y="2428920"/>
            <a:ext cx="1357200" cy="1643040"/>
          </a:xfrm>
          <a:custGeom>
            <a:avLst/>
            <a:gdLst>
              <a:gd name="textAreaLeft" fmla="*/ 87840 w 1357200"/>
              <a:gd name="textAreaRight" fmla="*/ 1269360 w 1357200"/>
              <a:gd name="textAreaTop" fmla="*/ 87840 h 1643040"/>
              <a:gd name="textAreaBottom" fmla="*/ 1555200 h 1643040"/>
            </a:gdLst>
            <a:ahLst/>
            <a:rect l="textAreaLeft" t="textAreaTop" r="textAreaRight" b="textAreaBottom"/>
            <a:pathLst>
              <a:path w="21600" h="26148">
                <a:moveTo>
                  <a:pt x="0" y="0"/>
                </a:moveTo>
                <a:lnTo>
                  <a:pt x="21600" y="0"/>
                </a:lnTo>
                <a:lnTo>
                  <a:pt x="21600" y="26148"/>
                </a:lnTo>
                <a:lnTo>
                  <a:pt x="0" y="26148"/>
                </a:lnTo>
                <a:close/>
              </a:path>
              <a:path fill="lightenLess" w="21600" h="261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48">
                <a:moveTo>
                  <a:pt x="21600" y="0"/>
                </a:moveTo>
                <a:lnTo>
                  <a:pt x="21600" y="26148"/>
                </a:lnTo>
                <a:lnTo>
                  <a:pt x="20200" y="24748"/>
                </a:lnTo>
                <a:lnTo>
                  <a:pt x="20200" y="1400"/>
                </a:lnTo>
                <a:close/>
              </a:path>
              <a:path fill="darkenLess" w="21600" h="26148">
                <a:moveTo>
                  <a:pt x="21600" y="26148"/>
                </a:moveTo>
                <a:lnTo>
                  <a:pt x="0" y="26148"/>
                </a:lnTo>
                <a:lnTo>
                  <a:pt x="1400" y="24748"/>
                </a:lnTo>
                <a:lnTo>
                  <a:pt x="20200" y="24748"/>
                </a:lnTo>
                <a:close/>
              </a:path>
              <a:path fill="lighten" w="21600" h="26148">
                <a:moveTo>
                  <a:pt x="0" y="261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48"/>
                </a:lnTo>
                <a:close/>
              </a:path>
              <a:path fill="darken" w="21600" h="26148">
                <a:moveTo>
                  <a:pt x="10800" y="606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148">
                <a:moveTo>
                  <a:pt x="10800" y="644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148">
                <a:moveTo>
                  <a:pt x="8224" y="10498"/>
                </a:moveTo>
                <a:lnTo>
                  <a:pt x="12088" y="10498"/>
                </a:lnTo>
                <a:lnTo>
                  <a:pt x="12088" y="17495"/>
                </a:lnTo>
                <a:lnTo>
                  <a:pt x="13376" y="17495"/>
                </a:lnTo>
                <a:lnTo>
                  <a:pt x="13376" y="18418"/>
                </a:lnTo>
                <a:lnTo>
                  <a:pt x="8224" y="18418"/>
                </a:lnTo>
                <a:lnTo>
                  <a:pt x="8224" y="17495"/>
                </a:lnTo>
                <a:lnTo>
                  <a:pt x="9512" y="17495"/>
                </a:lnTo>
                <a:lnTo>
                  <a:pt x="9512" y="11403"/>
                </a:lnTo>
                <a:lnTo>
                  <a:pt x="8224" y="11403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714240" y="1714680"/>
            <a:ext cx="7286760" cy="3714480"/>
          </a:xfrm>
          <a:prstGeom prst="rect">
            <a:avLst/>
          </a:prstGeom>
          <a:gradFill rotWithShape="0">
            <a:gsLst>
              <a:gs pos="0">
                <a:srgbClr val="ce94a2"/>
              </a:gs>
              <a:gs pos="100000">
                <a:srgbClr val="ca5c7b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GKEL 2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540480" cy="1125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684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i kumpulan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gasa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dasarkan dapatan bengkel 1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mpiran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lengkapkan borang yang diberi selepas mengenalpasti objektif dan kompetensi bagi setiap kursus yang dicadangka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Pilih skop bidang yang bersesuaian untuk cadangan kursus itu berdasarkan kepada Kandungan Kursus (Perincian Kursu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tangkan hasil kerja kumpula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Diagram 3" descr=""/>
          <p:cNvPicPr/>
          <p:nvPr/>
        </p:nvPicPr>
        <p:blipFill>
          <a:blip r:embed="rId1"/>
          <a:stretch/>
        </p:blipFill>
        <p:spPr>
          <a:xfrm>
            <a:off x="493560" y="476280"/>
            <a:ext cx="72979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673560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Action Button: Information 6">
            <a:hlinkClick r:id="rId2"/>
          </p:cNvPr>
          <p:cNvSpPr/>
          <p:nvPr/>
        </p:nvSpPr>
        <p:spPr>
          <a:xfrm>
            <a:off x="2428920" y="2428920"/>
            <a:ext cx="2500200" cy="2571840"/>
          </a:xfrm>
          <a:custGeom>
            <a:avLst/>
            <a:gdLst>
              <a:gd name="textAreaLeft" fmla="*/ 162000 w 2500200"/>
              <a:gd name="textAreaRight" fmla="*/ 2338200 w 2500200"/>
              <a:gd name="textAreaTop" fmla="*/ 162000 h 2571840"/>
              <a:gd name="textAreaBottom" fmla="*/ 2409840 h 2571840"/>
            </a:gdLst>
            <a:ahLst/>
            <a:rect l="textAreaLeft" t="textAreaTop" r="textAreaRight" b="textAreaBottom"/>
            <a:pathLst>
              <a:path w="21600" h="22219">
                <a:moveTo>
                  <a:pt x="0" y="0"/>
                </a:moveTo>
                <a:lnTo>
                  <a:pt x="21600" y="0"/>
                </a:lnTo>
                <a:lnTo>
                  <a:pt x="21600" y="22219"/>
                </a:lnTo>
                <a:lnTo>
                  <a:pt x="0" y="22219"/>
                </a:lnTo>
                <a:close/>
              </a:path>
              <a:path fill="lightenLess" w="21600" h="222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19">
                <a:moveTo>
                  <a:pt x="21600" y="0"/>
                </a:moveTo>
                <a:lnTo>
                  <a:pt x="21600" y="22219"/>
                </a:lnTo>
                <a:lnTo>
                  <a:pt x="20200" y="20819"/>
                </a:lnTo>
                <a:lnTo>
                  <a:pt x="20200" y="1400"/>
                </a:lnTo>
                <a:close/>
              </a:path>
              <a:path fill="darkenLess" w="21600" h="22219">
                <a:moveTo>
                  <a:pt x="21600" y="22219"/>
                </a:moveTo>
                <a:lnTo>
                  <a:pt x="0" y="22219"/>
                </a:lnTo>
                <a:lnTo>
                  <a:pt x="1400" y="20819"/>
                </a:lnTo>
                <a:lnTo>
                  <a:pt x="20200" y="20819"/>
                </a:lnTo>
                <a:close/>
              </a:path>
              <a:path fill="lighten" w="21600" h="22219">
                <a:moveTo>
                  <a:pt x="0" y="222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19"/>
                </a:lnTo>
                <a:close/>
              </a:path>
              <a:path fill="darken" w="21600" h="22219">
                <a:moveTo>
                  <a:pt x="10800" y="410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219">
                <a:moveTo>
                  <a:pt x="10800" y="447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219">
                <a:moveTo>
                  <a:pt x="8224" y="8533"/>
                </a:moveTo>
                <a:lnTo>
                  <a:pt x="12088" y="8533"/>
                </a:lnTo>
                <a:lnTo>
                  <a:pt x="12088" y="15531"/>
                </a:lnTo>
                <a:lnTo>
                  <a:pt x="13376" y="15531"/>
                </a:lnTo>
                <a:lnTo>
                  <a:pt x="13376" y="16453"/>
                </a:lnTo>
                <a:lnTo>
                  <a:pt x="8224" y="16453"/>
                </a:lnTo>
                <a:lnTo>
                  <a:pt x="8224" y="15531"/>
                </a:lnTo>
                <a:lnTo>
                  <a:pt x="9512" y="15531"/>
                </a:lnTo>
                <a:lnTo>
                  <a:pt x="9512" y="9438"/>
                </a:lnTo>
                <a:lnTo>
                  <a:pt x="8224" y="9438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2500200" y="5286240"/>
            <a:ext cx="2286000" cy="35748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mpiran 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755640" y="1341360"/>
            <a:ext cx="6665760" cy="3440160"/>
          </a:xfrm>
          <a:prstGeom prst="rect">
            <a:avLst/>
          </a:prstGeom>
          <a:gradFill rotWithShape="0">
            <a:gsLst>
              <a:gs pos="0">
                <a:srgbClr val="ce94a2"/>
              </a:gs>
              <a:gs pos="100000">
                <a:srgbClr val="ca5c7b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WIM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611280" y="281160"/>
            <a:ext cx="71294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TOH TAKWIM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LAKSANAAN LATIHAN GURU SECARA 'SCHOOL BASED'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KOLAH KEBANGSAAN ......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79280" y="1341360"/>
          <a:ext cx="7885080" cy="4792680"/>
        </p:xfrm>
        <a:graphic>
          <a:graphicData uri="http://schemas.openxmlformats.org/drawingml/2006/table">
            <a:tbl>
              <a:tblPr/>
              <a:tblGrid>
                <a:gridCol w="639720"/>
                <a:gridCol w="2926080"/>
                <a:gridCol w="1618920"/>
                <a:gridCol w="1586160"/>
                <a:gridCol w="1114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Pelaksan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ang kajian keperluan LDP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a SPSS bagi keperluan kursus LDP sepanjang tah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/9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bentukan Jawatankuasa LDP di Peringkat sekol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etua / Guru Besar dan 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01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yuarat Jawatankuasa LDP kali pertama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etua / Guru Besar dan 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2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LDP kali Pertama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dan AJK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04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214200" y="357120"/>
          <a:ext cx="7929720" cy="6215040"/>
        </p:xfrm>
        <a:graphic>
          <a:graphicData uri="http://schemas.openxmlformats.org/drawingml/2006/table">
            <a:tbl>
              <a:tblPr/>
              <a:tblGrid>
                <a:gridCol w="895320"/>
                <a:gridCol w="2260800"/>
                <a:gridCol w="1380960"/>
                <a:gridCol w="1578240"/>
                <a:gridCol w="181440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Pelaksan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poran Ke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4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Hari selepas kur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hantaran laporan bulanan ke PPD/JP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poran prestasi kewangan LD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4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iap hujung bu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hantaran Laporan Kutipan Maklumat KM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takluk kepada JPN neg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714240" y="1714680"/>
            <a:ext cx="7286760" cy="3714480"/>
          </a:xfrm>
          <a:prstGeom prst="rect">
            <a:avLst/>
          </a:prstGeom>
          <a:gradFill rotWithShape="0">
            <a:gsLst>
              <a:gs pos="0">
                <a:srgbClr val="ce94a2"/>
              </a:gs>
              <a:gs pos="100000">
                <a:srgbClr val="ca5c7b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GKEL 3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5849640" cy="11462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00040" y="1483920"/>
            <a:ext cx="721512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i kumpul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gasan 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ih 4 kursus yang telah dicadangkan dalam Bengkel 1 dan bina Takwim Pelaksanaan Latihan Guru Secar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hool-Bas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uk Tahun 2010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tangkan hasil kerja kumpul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277040" cy="792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428760" y="981000"/>
            <a:ext cx="7500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ngetahui tentang keperluan kursus LDP bagi semua guru sepanjang tahu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njadi satu panduan kepada AJK LDP untuk menentukan kursus yang sesuai diadakan mengikut keperluan guru di sekola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mudahkan pembinaan takwim untuk pelaksanaan kursus LDP di sekola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6546600" cy="1888920"/>
          </a:xfrm>
          <a:prstGeom prst="rect">
            <a:avLst/>
          </a:prstGeom>
          <a:ln w="0">
            <a:noFill/>
          </a:ln>
        </p:spPr>
      </p:pic>
      <p:pic>
        <p:nvPicPr>
          <p:cNvPr id="311" name="Rectangle 3" descr=""/>
          <p:cNvPicPr/>
          <p:nvPr/>
        </p:nvPicPr>
        <p:blipFill>
          <a:blip r:embed="rId2"/>
          <a:stretch/>
        </p:blipFill>
        <p:spPr>
          <a:xfrm>
            <a:off x="1706400" y="2755800"/>
            <a:ext cx="467532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Object 2"/>
          <p:cNvGraphicFramePr/>
          <p:nvPr/>
        </p:nvGraphicFramePr>
        <p:xfrm>
          <a:off x="0" y="5686560"/>
          <a:ext cx="128592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86560"/>
                    <a:ext cx="128592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Picture 2" descr="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6786720" y="5694480"/>
            <a:ext cx="13572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179280" y="2349360"/>
            <a:ext cx="644544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. Pengetahuan Profesionalis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50920" y="3573360"/>
            <a:ext cx="6360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. Kemahiran Profesionalis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50920" y="4724280"/>
            <a:ext cx="6143400" cy="12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Nilai dan Amala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ionalisme Kegurua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804000" y="234936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%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6804000" y="357336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6732720" y="508464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250920" y="214200"/>
            <a:ext cx="7705800" cy="155916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jian merangkumi Keperluan Latihan untuk Bidang-bidang beriku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0" y="333360"/>
            <a:ext cx="7858080" cy="8287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"/>
          <p:cNvSpPr/>
          <p:nvPr/>
        </p:nvSpPr>
        <p:spPr>
          <a:xfrm>
            <a:off x="285840" y="1428840"/>
            <a:ext cx="7715160" cy="516888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OP LATIHA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mu Pengetahuan Pendidikan dan Mata pelajaran / Bidang Pengkhususa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ndungan dan Kaedah Pedagogi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dagogical Content Knowled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gurusan Kurikul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reativiti dan Inovasi Pedagogi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7621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2"/>
          <p:cNvSpPr/>
          <p:nvPr/>
        </p:nvSpPr>
        <p:spPr>
          <a:xfrm>
            <a:off x="611280" y="1197000"/>
            <a:ext cx="6192720" cy="542916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OP LATIHA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jurulatih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ulisan Ilmia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jian dan Penyelidikan Akademi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pimpina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gurusan Kewang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gurusan Strategi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le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397640" cy="11764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2"/>
          <p:cNvSpPr/>
          <p:nvPr/>
        </p:nvSpPr>
        <p:spPr>
          <a:xfrm>
            <a:off x="357120" y="1643040"/>
            <a:ext cx="7572600" cy="507204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OP LATIHAN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lai dan etik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si berkes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ft Skil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489800" cy="106380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Information 4">
            <a:hlinkClick r:id="rId2"/>
          </p:cNvPr>
          <p:cNvSpPr/>
          <p:nvPr/>
        </p:nvSpPr>
        <p:spPr>
          <a:xfrm>
            <a:off x="3286080" y="2357280"/>
            <a:ext cx="2071800" cy="2500560"/>
          </a:xfrm>
          <a:custGeom>
            <a:avLst/>
            <a:gdLst>
              <a:gd name="textAreaLeft" fmla="*/ 134280 w 2071800"/>
              <a:gd name="textAreaRight" fmla="*/ 1937520 w 2071800"/>
              <a:gd name="textAreaTop" fmla="*/ 134280 h 2500560"/>
              <a:gd name="textAreaBottom" fmla="*/ 2366280 h 2500560"/>
            </a:gdLst>
            <a:ahLst/>
            <a:rect l="textAreaLeft" t="textAreaTop" r="textAreaRight" b="textAreaBottom"/>
            <a:pathLst>
              <a:path w="21600" h="26069">
                <a:moveTo>
                  <a:pt x="0" y="0"/>
                </a:moveTo>
                <a:lnTo>
                  <a:pt x="21600" y="0"/>
                </a:lnTo>
                <a:lnTo>
                  <a:pt x="21600" y="26069"/>
                </a:lnTo>
                <a:lnTo>
                  <a:pt x="0" y="26069"/>
                </a:lnTo>
                <a:close/>
              </a:path>
              <a:path fill="lightenLess" w="21600" h="26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9">
                <a:moveTo>
                  <a:pt x="21600" y="0"/>
                </a:moveTo>
                <a:lnTo>
                  <a:pt x="21600" y="26069"/>
                </a:lnTo>
                <a:lnTo>
                  <a:pt x="20200" y="24669"/>
                </a:lnTo>
                <a:lnTo>
                  <a:pt x="20200" y="1400"/>
                </a:lnTo>
                <a:close/>
              </a:path>
              <a:path fill="darkenLess" w="21600" h="26069">
                <a:moveTo>
                  <a:pt x="21600" y="26069"/>
                </a:moveTo>
                <a:lnTo>
                  <a:pt x="0" y="26069"/>
                </a:lnTo>
                <a:lnTo>
                  <a:pt x="1400" y="24669"/>
                </a:lnTo>
                <a:lnTo>
                  <a:pt x="20200" y="24669"/>
                </a:lnTo>
                <a:close/>
              </a:path>
              <a:path fill="lighten" w="21600" h="26069">
                <a:moveTo>
                  <a:pt x="0" y="26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9"/>
                </a:lnTo>
                <a:close/>
              </a:path>
              <a:path fill="darken" w="21600" h="26069">
                <a:moveTo>
                  <a:pt x="10800" y="602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069">
                <a:moveTo>
                  <a:pt x="10800" y="640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069">
                <a:moveTo>
                  <a:pt x="8224" y="10458"/>
                </a:moveTo>
                <a:lnTo>
                  <a:pt x="12088" y="10458"/>
                </a:lnTo>
                <a:lnTo>
                  <a:pt x="12088" y="17456"/>
                </a:lnTo>
                <a:lnTo>
                  <a:pt x="13376" y="17456"/>
                </a:lnTo>
                <a:lnTo>
                  <a:pt x="13376" y="18379"/>
                </a:lnTo>
                <a:lnTo>
                  <a:pt x="8224" y="18379"/>
                </a:lnTo>
                <a:lnTo>
                  <a:pt x="8224" y="17456"/>
                </a:lnTo>
                <a:lnTo>
                  <a:pt x="9512" y="17456"/>
                </a:lnTo>
                <a:lnTo>
                  <a:pt x="9512" y="11364"/>
                </a:lnTo>
                <a:lnTo>
                  <a:pt x="8224" y="11364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714240" y="1714680"/>
            <a:ext cx="7286760" cy="3714480"/>
          </a:xfrm>
          <a:prstGeom prst="rect">
            <a:avLst/>
          </a:prstGeom>
          <a:gradFill rotWithShape="0">
            <a:gsLst>
              <a:gs pos="0">
                <a:srgbClr val="ce94a2"/>
              </a:gs>
              <a:gs pos="100000">
                <a:srgbClr val="ca5c7b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GKEL 1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624720" cy="1295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67690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i kumpula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kan borang kajian keperluan yang diberikan secara individu.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mpira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cadangan kursus-kursus yang anda perlukan untuk meningkatkan profesionalisme and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mpulkan semua borang kajian keperluan dan buat analisa menggunakan borang analisi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Lampiran 3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0:39:24Z</dcterms:created>
  <dc:creator>Compaq</dc:creator>
  <dc:description/>
  <dc:language>en-US</dc:language>
  <cp:lastModifiedBy>[CIMB] sMiLe</cp:lastModifiedBy>
  <dcterms:modified xsi:type="dcterms:W3CDTF">2009-08-27T14:52:59Z</dcterms:modified>
  <cp:revision>73</cp:revision>
  <dc:subject/>
  <dc:title>PENGENALAN</dc:title>
</cp:coreProperties>
</file>