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F94-9CAE-4D1A-8E05-C32E98AD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B13-3128-4482-9CBF-6CB09D47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20C-B1D6-4A15-8F9A-25D9AB72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A7A-D9D1-4A55-8FC9-4D78FC6B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ABB-8951-4D1F-9417-D0ED7B7B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FBE-F48F-49D8-A59E-775E6E69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FF8-39AB-40FD-86D1-76339DB5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166-CD4E-41B0-8E3C-5C4BE0BB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44D-E3AD-41E5-8161-130DEE9A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A42-9586-468F-A249-5FAD9CD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2AB-48B8-4970-B35E-8D672A00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0DC-EC06-423E-88B8-EA413521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0BB0-7D4A-465A-B4C9-D94A9B339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19320" y="281160"/>
            <a:ext cx="69339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TOH TAKWIM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ELAKSANAAN LATIHAN GURU SECARA 'SCHOOL BASED'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KOLAH KEBANGSAAN ......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04920" y="1397160"/>
          <a:ext cx="8534160" cy="472428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1905120"/>
                <a:gridCol w="1600200"/>
                <a:gridCol w="121896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da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 Pelaksan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914400"/>
          <a:ext cx="8229600" cy="5221440"/>
        </p:xfrm>
        <a:graphic>
          <a:graphicData uri="http://schemas.openxmlformats.org/drawingml/2006/table">
            <a:tbl>
              <a:tblPr/>
              <a:tblGrid>
                <a:gridCol w="587520"/>
                <a:gridCol w="2917800"/>
                <a:gridCol w="1904760"/>
                <a:gridCol w="1570320"/>
                <a:gridCol w="12492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da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 Pelaksan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56:02Z</dcterms:created>
  <dc:creator>KPM</dc:creator>
  <dc:description/>
  <dc:language>en-US</dc:language>
  <cp:lastModifiedBy>user</cp:lastModifiedBy>
  <dcterms:modified xsi:type="dcterms:W3CDTF">2009-08-14T01:47:48Z</dcterms:modified>
  <cp:revision>12</cp:revision>
  <dc:subject/>
  <dc:title>Slide 1</dc:title>
</cp:coreProperties>
</file>