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CF6F-36C2-4E9D-BD73-6C5B5660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4636-FCD2-478E-B9FE-9AF5B83D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DFC-6C57-428D-BC76-9C5C2E88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DB1-8FBD-4E73-8402-A755479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D2B-8454-4386-ABCA-32581AA3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ECA-4112-4BE7-818B-99D6ED16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2CB9-A060-4EDC-8D74-5AF15DA7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ED4A-D6BF-4751-867D-998D92C2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92D-DDE1-45FC-8EE0-E8257F9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0349-B432-45F7-9E3C-353A3B35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4427-0842-4270-AFCF-53E2F3DB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7CDD-18AD-471C-906B-B3E6B47E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91ED-243C-43FB-A30E-73BB139F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7C6-0747-47B8-9960-4F491F02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0053-45BB-4524-9C2A-E8436A6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12DE-B3B7-4983-B074-B6AA42C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9C24-3835-4D4B-A1FB-9CF9D724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49D0-6FD2-4524-891A-86C98C31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412F-8CAB-4EBC-8CB2-6DC90019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6F29-3E64-47B7-8061-04415EF0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62EB-0FCA-476D-B47D-BFE62FB8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FB0A-0369-484A-9456-8F3FD94C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06BD-D4B9-49A5-A92C-C6219412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EF11-B4B4-4FA6-9584-99E3AE47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016-6880-4504-A86A-0620EA5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EB37-6531-4EFE-8BAB-37179E3A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98D5-FB73-4539-8BC1-03BC0D7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AFED-A85F-41A0-8898-3BEA996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25D2-13AF-488F-9BEE-BA6064D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07A39-23E9-44C9-8D3C-B71CB96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3DB6-093B-4025-AD2E-7F77EDCF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49AA-21F7-4951-A565-F2CB0B2B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251BA-EAE6-4E8F-A8CD-D50C4F0C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8A2F-D26B-4ECF-80D5-E1B6579E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CADD-8512-4449-A39B-280A5C16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0C1-EB8E-4A13-A96C-3E7433C0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DDAB-178B-4778-BF2D-CBB086C0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E1A9-9497-4ED3-B776-967A83E0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16C2-58F5-4116-BC56-D8AEB187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2424-4C22-4E7A-9CD4-47C3A34A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E371-16F4-4DD8-A2FF-ADFF610D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C7AB-7393-40BB-97F2-42AEAE1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F36A-7CAF-4996-BFED-C9041007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1686-B2F7-4D5A-8334-9BA6B398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236CC-6734-4E5D-B788-9929C318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72D81-3497-45F3-96E7-984D119D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58D-93FF-4B18-AF3C-F2343865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FA523-B49E-4EF8-8206-3C3DBCBC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9483F-BD8A-4D5A-AD49-922FF8B0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6EFA0-509E-4481-94D6-CD0FA87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2A0F6-FEE4-46E2-8180-1CB6B27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FECD-5FCE-48D5-9FA9-2493051C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58E6A-1B3A-4EF2-88A5-1DD60E18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25EC-81A2-4497-A1E8-DA2A687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3C136-9439-45FB-9CB1-21F1CB68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496F-1C6C-495F-9F6B-5A723698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182C-09B7-436D-B941-066A87F8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FBE-E132-43DC-9C6A-8B25E347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9FED-13B9-4AA0-8038-71D21B53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9A190-22DC-4699-AF2D-69C3B1F2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BFEE9-70E6-4B81-B03F-015ECEC8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6A47-3231-4E27-A910-1A75CA42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4BC4-AC37-4AD7-BF40-53BFFFB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4E98B-A96D-467B-B694-015ACEBC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EADF-3059-4773-B1B2-A77300E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CE59-4A9D-4868-946C-31D4956F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6DBC3-E81F-4EE4-9362-D909166D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42EC-5D6C-4405-B566-D14927E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10C-89A8-4420-B795-69451B17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D0EDE-9C31-46DD-B5A1-D7DBF792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2B680-5713-42E5-9622-ED83EF34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D140-6A3F-4785-92ED-A1C7B938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615E-9029-4E6B-B9FA-591661C2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26FD-63C2-4A55-AC34-5378455E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82007-59C7-49F8-895B-7BB1BAAF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F5F76-6657-4C9C-9356-7D222CD9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546D7-53F0-4B58-9E4F-516838CA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01035-C0D5-447A-859F-C4D19612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9C61-DB6C-4C4E-ABF7-1C7DAE5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731-1739-4F3D-A844-4A839AD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22A91-1868-427C-9744-D087D5F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DA616-4A97-47FF-BAC2-FB530DF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D82FB-B4C2-47B4-9053-0C747971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CEA0C-7251-4040-9E6A-6EE1CD58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23DB0-9139-426C-B745-6B18F38C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AEDD9-37B6-409B-949D-0EAF8476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F6152-E031-4F0B-BC99-46D48504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816A2-AAA7-4E57-AB9F-8B418E4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B299F-7C4D-410A-9B90-4529C588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07133-994C-4BFC-981A-C68840E1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CE1-41FE-4EBA-9210-5035D4A2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68877-08B0-4CF7-AAE1-4020A6B4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95C19-369A-43C0-BEC5-0FB6A02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6AD8-33E9-4F45-B770-6503E3B2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82394-89F7-49D7-8E16-80DD0C0E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71D2-64A1-447E-919D-D30AD8A0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0B8F6-89BE-4BE9-AE6D-D4863774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A66D6-135F-4931-B0E8-5B005A69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D4FD-D3DD-46AF-B703-9E2704D024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FB37-9130-4F41-943B-3E652771FF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1000-2121-4157-8583-FC478537D7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FDEB-ED0E-4840-AF00-B80949C4BF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9427-4287-456E-97D9-CC557C955A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74FF-9C8C-46F7-9D53-29D2FF3C20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FC8A-FD1E-4ED7-82F4-E673FCADCC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94A-1D22-4FDC-9F5D-F26CFC168E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87480" y="907920"/>
            <a:ext cx="81201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Diagram 3" descr=""/>
          <p:cNvPicPr/>
          <p:nvPr/>
        </p:nvPicPr>
        <p:blipFill>
          <a:blip r:embed="rId1"/>
          <a:stretch/>
        </p:blipFill>
        <p:spPr>
          <a:xfrm>
            <a:off x="682560" y="1584360"/>
            <a:ext cx="8010720" cy="4627440"/>
          </a:xfrm>
          <a:prstGeom prst="rect">
            <a:avLst/>
          </a:prstGeom>
          <a:ln w="0">
            <a:noFill/>
          </a:ln>
        </p:spPr>
      </p:pic>
      <p:pic>
        <p:nvPicPr>
          <p:cNvPr id="379" name="Rectangle 2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80880" y="1600200"/>
          <a:ext cx="8458200" cy="426708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EKOLAH PT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EKOLAH BUKAN PT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program / Kurs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Kertas  Kerj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tir-butir kur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perbelanj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elulusan /Surat Arahan Kursus oleh Pengetua/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PELAKSAN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program /   Kursus (Kertas  Kerj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tir-butir kur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perbelanj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mohonan pelaksanaan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ursus ke 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elulusan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urat Arahan Kursus oleh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getua/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PELAKSAN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3" name=""/>
          <p:cNvGraphicFramePr/>
          <p:nvPr/>
        </p:nvGraphicFramePr>
        <p:xfrm>
          <a:off x="228600" y="1600200"/>
          <a:ext cx="8686800" cy="47451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106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e18"/>
                          </a:solidFill>
                          <a:latin typeface="Arial"/>
                        </a:rPr>
                        <a:t>OBJEK SEBAG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e18"/>
                          </a:solidFill>
                          <a:latin typeface="Arial"/>
                        </a:rPr>
                        <a:t>(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f0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e18"/>
                          </a:solidFill>
                          <a:latin typeface="Arial"/>
                        </a:rPr>
                        <a:t>BUTIR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f0a8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1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bayaran tuntutan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jalanan kursus guru-gu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4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bayaran sewaan dewa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 dan alatan ICT semasa kur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7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bekalan pejabat, bekalan am, Bekalan Riadah, Bahan Fotografi (kurang dari RM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9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hidmatan- Bayaran syarahan, bahan kursus/ cetak-bahan/ buku.Keperluan bayaran makan minum peserta kursus. (minum pagi, makan   tengahari dan minum petang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9251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5" name=""/>
          <p:cNvGraphicFramePr/>
          <p:nvPr/>
        </p:nvGraphicFramePr>
        <p:xfrm>
          <a:off x="457200" y="1295280"/>
          <a:ext cx="8153280" cy="4604040"/>
        </p:xfrm>
        <a:graphic>
          <a:graphicData uri="http://schemas.openxmlformats.org/drawingml/2006/table">
            <a:tbl>
              <a:tblPr/>
              <a:tblGrid>
                <a:gridCol w="1359000"/>
                <a:gridCol w="6794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K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urat permohonan mengadakan kurs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ta Mi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butharga Pembek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Sijil Pendaftaran Syarik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yata Bank/ Borang Maklumat Pembek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narai Peser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Asal Pesanan Tempatan yang telah ditandatangani pembekal dan telah disahkan penerimaan perbekalan oleh penganjur/sekola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asal Invois/bil oleh pembek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38120" y="360360"/>
            <a:ext cx="832788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457200" y="1295280"/>
          <a:ext cx="8229600" cy="5050080"/>
        </p:xfrm>
        <a:graphic>
          <a:graphicData uri="http://schemas.openxmlformats.org/drawingml/2006/table">
            <a:tbl>
              <a:tblPr/>
              <a:tblGrid>
                <a:gridCol w="990720"/>
                <a:gridCol w="4800600"/>
                <a:gridCol w="243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K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KTU TINDA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urat permohonan Mengadakan kurs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amp; kertas ker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tiap kali permoh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ta Mi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butharga Pembek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Sijil Pendaftaran Syarik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yata Bank/ Borang Maklumat Pembek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narai Peser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Asal Pesanan Tempatan yang telah ditandatangani pembekal dan telah disahkan penerimaan perbekalan oleh penganjur/sekola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mbaya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asal Invois/bil oleh pembek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mbaya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1:09:01Z</dcterms:created>
  <dc:creator>user</dc:creator>
  <dc:description/>
  <dc:language>en-US</dc:language>
  <cp:lastModifiedBy> </cp:lastModifiedBy>
  <dcterms:modified xsi:type="dcterms:W3CDTF">2009-08-13T07:38:23Z</dcterms:modified>
  <cp:revision>144</cp:revision>
  <dc:subject/>
  <dc:title>PENGURUSAN KEWANGAN</dc:title>
</cp:coreProperties>
</file>