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4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C886-9B56-4AA4-8A3F-BE9B80D29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77CD-22E9-4957-A157-22335858F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ika tidak terdapat pengusaha kantin di sekolah terutama sekolah pedalaman, maka pihak SULDP/sekolah perlu mengambil inisiatif sendiri bergantung kepada keadaan dan kesesuaian tempat masing- masing selagi tidak melanggar garis panduan LDP dengan nasihat&amp;rujukan JPN/PP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4F2C-D441-4732-996E-D32F2062C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C968-1A6A-470C-B50D-C7384CA74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1037-9D04-46BC-B44B-99F9B8BE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CBC1-4DB7-4221-8DC2-A316E869D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EC98-C360-4FC1-9034-D87F277FE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3897-ED09-4E3D-8E2A-69B6F5740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0BB2-F2B7-44E3-9737-04CFD0B0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5744-E240-4808-9192-72896E68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C3EF-2D3F-4896-A4B6-A831D523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5B21-D925-43EA-9E75-E53B1F08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8D66-BE80-4913-A3B8-C711018A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14B8-41D2-47EE-96B1-B62AB650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874F-BD1F-41A0-98D5-728F9D4B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3113-01EC-46B9-B394-5B3362B3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0336-CA49-44E0-8130-8F75D991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9063-197F-4A4B-9E14-0E2FCCB9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21A8-6C8A-4C11-8BAE-B01D8DD1B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3567-634E-4475-ADC8-7693597BF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3C133-5ACF-4796-8BC0-32FF01BFC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B4372-AB86-403E-A170-34BB7195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54C4B-4191-49FD-84DC-71E6ADD5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8640D-DD76-4B68-A4E9-0FCDE651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E70EC-1FD7-41E0-A6A7-B846AA14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02B7-1F71-48B1-A0EA-28555137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561C6-A285-46AB-822E-27E1A698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7805B-15CC-4D8E-B120-6E80FC70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1CA4A-82DC-4DF0-B671-E271F18E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DD63F-E80A-4DAB-B855-22D8D993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2F744-EB5F-40D9-AAAC-2FDF02D3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E3400-7733-4BBB-9A5B-39EA6462D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C6841-A785-4EA7-A147-5A64AA045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9B189-6B9F-4033-97FD-A9FAC3556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02929-3D18-4C3B-9631-96B1EDEC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1A12E-A44F-4461-A588-5D31BB4F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03B0-AB2C-4A78-A0B9-A7D06008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B4D81-CDA3-432C-A89C-72D58E36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9AAA3-6D95-437F-AA75-B9D112A3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0DD09-EB63-44B3-BFA3-B83884DE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E3F8D-75C0-45F0-8D43-CA36ED09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00176-7981-4EFD-BD80-5E89F8CF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04C4E-4B8A-4888-870A-FD38FDF0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14FF9-06FF-4058-AE87-F1E660C2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E9168-B0E3-4C06-9AD5-A83F25715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A09A9-44BF-4C35-A222-BEEE55CBF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02C00-4B87-4A86-AFC7-DBF78528E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95FC-C203-4C76-B322-AD16A17F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6AFAA-4CF5-41CF-978C-4274C2EB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36071-27A4-4FC0-900F-0E02EA37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6DA9F-2D14-4FB5-9D1A-E6485B99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4ADEC-68DA-4188-AE2E-FE47472B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7E91B-88DD-490F-83BC-CA774A55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BCB00-EE5D-4CA3-BF18-4471EF94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5D141-E895-45A6-9786-806AC5C5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8DB01-70B3-42EE-9BC6-3A20BC93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5D551-E6F5-4C56-87C0-7493DDA1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5ADC7-ED90-42EF-A33F-849D4F8CC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7691-7335-4A3A-88DA-2759BB2B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2FD41-2C9B-457F-9EBA-CFE3B69F4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4CC3C-4BC7-4968-BA2E-95D547AC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08561-FCE5-494E-8BBC-65C5B42F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2C839-5702-43EE-A92C-792452A5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852B0-0410-4BC4-BAFF-8D6AF858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43CC1-CD26-4A5F-850D-CD515CFE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BB599-9061-4561-B7F5-052F726D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673FC-F0F5-41EF-8AA0-17682B46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3B7EB-FCD0-4A9B-AF61-33D62CD4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513FC-9C7E-4C9B-A524-6E8886DF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7FDC-00C2-4240-AA87-C9F9C206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C75BF-578F-4901-9CE8-5044066E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06131-6C78-479D-9490-971660039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D407B-4D06-4978-A333-B0589D3BA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D24D5-37C7-4DCE-8C8C-55D23A0B3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5AF0D-4927-491B-9288-B74DC413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BDECA-D28F-4C52-B3AE-1EB94DD5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22E95-F1C4-4AD2-8BF1-87EC2EDD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BD117-13D5-49B7-AB0D-A638E064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6F8C7-7F57-4612-9EF8-86E6DAF9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6E081-1519-49EA-8472-0C6F9F49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C232-9518-468C-BBC5-56E551B1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AD611-55B9-49C4-8BCA-3848D5C8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6C66D-FEC1-46A5-990C-21476782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92951-0F23-4D39-AFF5-2FBEBFE3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C93A7-B573-4B13-A75D-7D8957E84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14634-1D0F-4755-95EE-8C8B53BBB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90D75-4E94-48D7-B5AB-26C9C819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562EF-0954-438B-BBB5-B09E73A5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BEE32-B3C3-4851-912A-23720542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30596-6CF9-43DA-A89C-99E3D3D9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F701A-71A8-4B7B-A5DB-BAAD40C2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06BC-7425-4E00-B118-E6BAD4D2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D5E15-62A7-4E5A-B4B6-6B4AD999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73276-4757-4DCC-AA8D-CBBC9460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7CC10-51C2-476F-A628-C7BD01ED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292FD-412A-4952-AF16-08A99A17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6CB1A-FF92-452D-B301-81359031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C2105-3373-46C2-B70B-8750ECF23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83F3C-81FA-4E5A-8EE1-41217BF16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7C2B-08CE-4EE3-A16A-3D47728858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B003-72F6-44EC-81BF-902CC56221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9693-8716-41C2-B2E5-04CEC98E51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50CD-6B48-44F4-BD0A-2C8C775F57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7CE0-1899-43BE-B156-A74E84B8FC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26BD-26B5-4CC7-8673-424AE50F29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88A8-D77B-48B2-980C-669AA62AD2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0B9F-9ED8-496B-80A8-E8B8A7DE5F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987480" y="907920"/>
            <a:ext cx="812016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Rectangle 2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21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3" name=""/>
          <p:cNvGraphicFramePr/>
          <p:nvPr/>
        </p:nvGraphicFramePr>
        <p:xfrm>
          <a:off x="228600" y="1676520"/>
          <a:ext cx="8686800" cy="4227480"/>
        </p:xfrm>
        <a:graphic>
          <a:graphicData uri="http://schemas.openxmlformats.org/drawingml/2006/table">
            <a:tbl>
              <a:tblPr/>
              <a:tblGrid>
                <a:gridCol w="1905120"/>
                <a:gridCol w="2590560"/>
                <a:gridCol w="4191120"/>
              </a:tblGrid>
              <a:tr h="97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T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RKA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INDAKA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2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enerimaan Peruntuka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agi sekolah bukan PT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ff8119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k Sub-Waran Peruntukan di teri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ff8119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i Buku Vot PP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ff8119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tar Waran (dokumen kewangan) ke AG atau KP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ff8119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poran Peruntukan ke JP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4" name=""/>
          <p:cNvGraphicFramePr/>
          <p:nvPr/>
        </p:nvGraphicFramePr>
        <p:xfrm>
          <a:off x="152280" y="1676520"/>
          <a:ext cx="8839440" cy="4647960"/>
        </p:xfrm>
        <a:graphic>
          <a:graphicData uri="http://schemas.openxmlformats.org/drawingml/2006/table">
            <a:tbl>
              <a:tblPr/>
              <a:tblGrid>
                <a:gridCol w="1981440"/>
                <a:gridCol w="2514600"/>
                <a:gridCol w="434340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T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RKA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INDAKA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EKOLAH PT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Penerimaan Peruntuk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8119"/>
                        </a:buClr>
                        <a:buSzPct val="80000"/>
                        <a:buFont typeface="Century Gothic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emak Sub-Wara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8119"/>
                        </a:buClr>
                        <a:buSzPct val="80000"/>
                        <a:buFont typeface="Century Gothic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runtukan Buku Vot Waran ke AG atau K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8119"/>
                        </a:buClr>
                        <a:buSzPct val="80000"/>
                        <a:buFont typeface="Century Gothic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antar laporan peruntukan ke JPN melalui PP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5" name="Text Box 18"/>
          <p:cNvSpPr/>
          <p:nvPr/>
        </p:nvSpPr>
        <p:spPr>
          <a:xfrm>
            <a:off x="2133720" y="228600"/>
            <a:ext cx="4419360" cy="10688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NGGUNGJAWAB SEKOLAH PT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14360" y="212760"/>
            <a:ext cx="8454960" cy="121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7" name=""/>
          <p:cNvGraphicFramePr/>
          <p:nvPr/>
        </p:nvGraphicFramePr>
        <p:xfrm>
          <a:off x="228600" y="1604880"/>
          <a:ext cx="8686800" cy="5465880"/>
        </p:xfrm>
        <a:graphic>
          <a:graphicData uri="http://schemas.openxmlformats.org/drawingml/2006/table">
            <a:tbl>
              <a:tblPr/>
              <a:tblGrid>
                <a:gridCol w="1905120"/>
                <a:gridCol w="2590560"/>
                <a:gridCol w="4191120"/>
              </a:tblGrid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KA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NDAKA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86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ayara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rogram bagi sekolah bukan PT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ff8119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ima nota minta perbelanjaan program sekola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ff8119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k baki Vot PP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ff8119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k Pesanan Tempat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ff8119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at bayaran program mengikut peraturan kewang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ff8119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tar laporan bulanan kewangan ke JP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ff8119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11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9" name=""/>
          <p:cNvGraphicFramePr/>
          <p:nvPr/>
        </p:nvGraphicFramePr>
        <p:xfrm>
          <a:off x="152280" y="1523880"/>
          <a:ext cx="8839440" cy="5257800"/>
        </p:xfrm>
        <a:graphic>
          <a:graphicData uri="http://schemas.openxmlformats.org/drawingml/2006/table">
            <a:tbl>
              <a:tblPr/>
              <a:tblGrid>
                <a:gridCol w="1981440"/>
                <a:gridCol w="2514600"/>
                <a:gridCol w="4343400"/>
              </a:tblGrid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KA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NDAKA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79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KOLAH PT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yaran progr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ff8119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i Nota minta mengikut progra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ff8119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k baki di BukuVot (dapatkan maklumat dari PT Kewangan/ Ketua kerani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ff8119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at Pesanan Tempat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ff8119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at bayaran mengikut peraturan Kewang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ff8119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tar laporan bulanan ke wangan ke JPN melalui PP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225360" y="-6480"/>
            <a:ext cx="8925120" cy="11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1" name=""/>
          <p:cNvGraphicFramePr/>
          <p:nvPr/>
        </p:nvGraphicFramePr>
        <p:xfrm>
          <a:off x="457200" y="990720"/>
          <a:ext cx="8153280" cy="5508360"/>
        </p:xfrm>
        <a:graphic>
          <a:graphicData uri="http://schemas.openxmlformats.org/drawingml/2006/table">
            <a:tbl>
              <a:tblPr/>
              <a:tblGrid>
                <a:gridCol w="1359000"/>
                <a:gridCol w="6794280"/>
              </a:tblGrid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RKA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2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urat permohonan mengadakan kursu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ta Min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ebutharga Pembek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alinan Sijil Pendaftaran Syarik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8119"/>
                        </a:buClr>
                        <a:buSzPct val="8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mbekal Maka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8119"/>
                        </a:buClr>
                        <a:buSzPct val="8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mbekal Peralat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nyata Bank/ Borang Maklumat Pembek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enarai Pesert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alinan Asal Pesanan Tempatan yang telah ditandatangani pembekal dan telah disahkan penerimaan perbekalan oleh penganjur/sekola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alinan asal Invois/bil oleh pembek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469800" y="103320"/>
            <a:ext cx="7935840" cy="67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3" name=""/>
          <p:cNvGraphicFramePr/>
          <p:nvPr/>
        </p:nvGraphicFramePr>
        <p:xfrm>
          <a:off x="380880" y="838080"/>
          <a:ext cx="8229600" cy="5580360"/>
        </p:xfrm>
        <a:graphic>
          <a:graphicData uri="http://schemas.openxmlformats.org/drawingml/2006/table">
            <a:tbl>
              <a:tblPr/>
              <a:tblGrid>
                <a:gridCol w="533520"/>
                <a:gridCol w="228600"/>
                <a:gridCol w="4648320"/>
                <a:gridCol w="2819160"/>
              </a:tblGrid>
              <a:tr h="454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RKA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AKTU TINDAK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urat permohonan mengadakan kursus &amp; kertas ker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etiap kali permoho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ta Mi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emasa Permoho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ebutharga Pembek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emasa Permoho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alinan Sijil Pendaftaran Syarik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8119"/>
                        </a:buClr>
                        <a:buSzPct val="8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mbekal Maka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8119"/>
                        </a:buClr>
                        <a:buSzPct val="8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mbekal Perala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emasa Permoho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nyata Bank/ Borang Maklumat Pembek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emasa Permoho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enarai Pesert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emasa Permoho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alinan Asal Pesanan Tempatan yang telah ditandatangani pembekal dan telah disahkan penerimaan perbekalan oleh penganjur/sekolah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mbaya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alinan asal Invois/bil oleh pembek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mbaya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1365120" y="-85680"/>
            <a:ext cx="6566040" cy="221292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1295280" y="2133360"/>
            <a:ext cx="6934320" cy="2819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14f2"/>
                </a:solidFill>
                <a:latin typeface="Century Gothic"/>
              </a:rPr>
              <a:t>Lampiran 3 - Perancangan Tahunan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14f2"/>
                </a:solidFill>
                <a:latin typeface="Century Gothic"/>
              </a:rPr>
              <a:t>Lampiran 4 - Kertas Kerja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14f2"/>
                </a:solidFill>
                <a:latin typeface="Century Gothic"/>
              </a:rPr>
              <a:t>Lampiran 5 - Surat Permohonan Kursu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414f2"/>
                </a:solidFill>
                <a:latin typeface="Century Gothic"/>
              </a:rPr>
              <a:t>Lampiran 6 – Senarai Semak Pengurusan   </a:t>
            </a:r>
            <a:r>
              <a:rPr b="0" lang="en-US" sz="2400" spc="-1" strike="noStrike">
                <a:solidFill>
                  <a:srgbClr val="2414f2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2414f2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2414f2"/>
                </a:solidFill>
                <a:latin typeface="Century Gothic"/>
              </a:rPr>
              <a:t>       Kewanga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dalah Dokumen Kewangan menyatakan peruntukan yang diterima dari JP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apat peruntukan- Masukkan amaun dalam Buku Vot (PT Kewangan/ Ketua kerani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ngisian Buku Vot adalah mengikut item-item yang ditetapka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ejer keci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8" name=""/>
          <p:cNvGraphicFramePr/>
          <p:nvPr/>
        </p:nvGraphicFramePr>
        <p:xfrm>
          <a:off x="2286000" y="4572000"/>
          <a:ext cx="6095880" cy="17096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518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Lokasi  Buku V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ekolah PTJ disimpan oleh sekola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ekolah  Bukan PTJ di PP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Araha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atu kumpulan terdiri daripada 5 ora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Rancang satu kursus/bengkel LDP secara School-Bas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Gunakan borang-borang yang diberika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Bincang dalam kumpula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Bentangkan hasil kumpula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2590920" y="533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BENGKE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2057040"/>
            <a:ext cx="822960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Isi borang kertas kerja (Lampiran 4a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Isi borang nota minta sekolah PTJ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Isi borang nota minta Sekolah Bukan PTJ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Tulis surat permohonan kursus (Lampiran 5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* Rujuk bahan edaran softcopy peserta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914400" y="6858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RANG-BORANG BERKAIT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Content Placeholder 3" descr=""/>
          <p:cNvPicPr/>
          <p:nvPr/>
        </p:nvPicPr>
        <p:blipFill>
          <a:blip r:embed="rId1"/>
          <a:stretch/>
        </p:blipFill>
        <p:spPr>
          <a:xfrm>
            <a:off x="530280" y="1444680"/>
            <a:ext cx="8229600" cy="468792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5"/>
          <p:cNvSpPr/>
          <p:nvPr/>
        </p:nvSpPr>
        <p:spPr>
          <a:xfrm>
            <a:off x="3200400" y="6094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WordArt 4"/>
          <p:cNvSpPr txBox="1"/>
          <p:nvPr/>
        </p:nvSpPr>
        <p:spPr>
          <a:xfrm>
            <a:off x="1752480" y="3127320"/>
            <a:ext cx="5639040" cy="106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27a8f"/>
                </a:solidFill>
                <a:latin typeface="Century Gothic"/>
              </a:rPr>
              <a:t>Terima kasih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27a8f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0880" y="685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AKLIMAT INI BERTUJUAN UNTUK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enjelaskan beberapa perkara 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erkaitan penggunaan peruntukan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Latihan Dalam Perkhidmatan bagi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elaksanakan kursus-kursus dalam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erkhidmata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i.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emudahkan perancangan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erbelanjaan dan kawalan peruntuka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0520" y="60912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Century Gothic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Menyeragamkan aktiviti perbelanjaan oleh PTJ/ bukan PTJ selaras dengan peraturan kewangan sedia ada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Century Gothic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Century Gothic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Membantu PTJ/ bukan PTJ melaksanakan kursus-kursus dalam perkhidmatan dengan lebih cekap dan profesional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Century Gothic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Century Gothic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Memberi pendedahan dan kemahiran dalam pengurusan kewangan LDP kepada penyelaras kursus/ SULDP.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Diagram 3" descr=""/>
          <p:cNvPicPr/>
          <p:nvPr/>
        </p:nvPicPr>
        <p:blipFill>
          <a:blip r:embed="rId1"/>
          <a:stretch/>
        </p:blipFill>
        <p:spPr>
          <a:xfrm>
            <a:off x="682560" y="1584360"/>
            <a:ext cx="8010720" cy="4627440"/>
          </a:xfrm>
          <a:prstGeom prst="rect">
            <a:avLst/>
          </a:prstGeom>
          <a:ln w="0">
            <a:noFill/>
          </a:ln>
        </p:spPr>
      </p:pic>
      <p:pic>
        <p:nvPicPr>
          <p:cNvPr id="383" name="Rectangle 2" descr=""/>
          <p:cNvPicPr/>
          <p:nvPr/>
        </p:nvPicPr>
        <p:blipFill>
          <a:blip r:embed="rId2"/>
          <a:stretch/>
        </p:blipFill>
        <p:spPr>
          <a:xfrm>
            <a:off x="450720" y="29844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990360" y="144756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JPN bertindak sebagai PTJ: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5850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585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Century Gothic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engeluarkan Waran Peruntukan ke PPD dan sekolah PTJ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585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Century Gothic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585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Century Gothic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embekalkan dokumen-dokumen kepada sekolah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585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Century Gothic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585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Century Gothic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embantu sekolah melaksanakan tanggungjawab sebagai PTJ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585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Century Gothic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85000" indent="-585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Century Gothic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embuat pemantauan secara berterusan ke atas PPD dan sekolah PTJ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Century Gothic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endapatkan laporan prestasi perbelanjaan bulanan daripada PPD dan sekolah PTJ 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Century Gothic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Century Gothic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emastikan semua peruntukan dibelanjakan oleh pihak PPD dan sekolah PTJ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Century Gothic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Century Gothic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JPN bertanggungjawab mengeluar dan merekod pengeluaran waran kecil ke PPD (sekolah bukan PTJ) dan sekolah PTJ. Tarikh pelaksanaan mengikut negeri masing- masing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Century Gothic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380880" y="1600200"/>
          <a:ext cx="8458200" cy="4267080"/>
        </p:xfrm>
        <a:graphic>
          <a:graphicData uri="http://schemas.openxmlformats.org/drawingml/2006/table">
            <a:tbl>
              <a:tblPr/>
              <a:tblGrid>
                <a:gridCol w="4229280"/>
                <a:gridCol w="4228920"/>
              </a:tblGrid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SEKOLAH PT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SEKOLAH BUKAN PT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44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nentuan program / Kursu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Kertas  Kerj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nentuan butir-butir kurs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nentuan perbelanja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nerimaan kelulusan /Surat Arahan Kursus dari Pengetua/G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09480" indent="-6094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nentuan program /   Kursus (Kertas  Kerj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nentuan butir-butir kurs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nentuan perbelanja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rmohonan pelaksanaan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ursus ke  PP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nerimaan kelulusan PP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nerimaan Surat Arahan Kursus dari Pengetua/G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450720" y="274680"/>
            <a:ext cx="824256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1" name=""/>
          <p:cNvGraphicFramePr/>
          <p:nvPr/>
        </p:nvGraphicFramePr>
        <p:xfrm>
          <a:off x="228600" y="1600200"/>
          <a:ext cx="8686800" cy="4745160"/>
        </p:xfrm>
        <a:graphic>
          <a:graphicData uri="http://schemas.openxmlformats.org/drawingml/2006/table">
            <a:tbl>
              <a:tblPr/>
              <a:tblGrid>
                <a:gridCol w="2895480"/>
                <a:gridCol w="5791320"/>
              </a:tblGrid>
              <a:tr h="106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e18"/>
                          </a:solidFill>
                          <a:latin typeface="Arial"/>
                        </a:rPr>
                        <a:t>OBJEK SEBAG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e18"/>
                          </a:solidFill>
                          <a:latin typeface="Arial"/>
                        </a:rPr>
                        <a:t>(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f0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e18"/>
                          </a:solidFill>
                          <a:latin typeface="Arial"/>
                        </a:rPr>
                        <a:t>BUTIR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f0a8"/>
                    </a:solidFill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21000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tuk bayaran tuntutan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jalanan kursus guru-gu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24000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tuk bayaran sewaan dewan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 dan alatan ICT semasa kurs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27000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tuk bekalan pejabat, bekalan am, bekalan riadah, bahan fotografi (kurang dari RM5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29000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khidmatan- Bayaran syarahan, bahan kursus/ cetak-bahan/ buku, bayaran makan minum peserta kursus. (minum pagi, makan   tengahari dan minum petang)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01:09:01Z</dcterms:created>
  <dc:creator>user</dc:creator>
  <dc:description/>
  <dc:language>en-US</dc:language>
  <cp:lastModifiedBy> </cp:lastModifiedBy>
  <dcterms:modified xsi:type="dcterms:W3CDTF">2009-09-08T05:22:23Z</dcterms:modified>
  <cp:revision>164</cp:revision>
  <dc:subject/>
  <dc:title>PENGURUSAN KEWANGAN</dc:title>
</cp:coreProperties>
</file>