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3837-F8A1-49FC-89FF-CAF8C8EB0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1C6D-428E-49B2-9C42-BDC986CD3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5767-C066-4882-8D05-819EB4585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D8DD-14ED-40A8-878A-F4B22747E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4D6DB-8D18-4C75-8A73-4901AA9E8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C0F4A-2F9D-488C-ACED-DD5EC563A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2FE4A-E2CB-4E8F-9D3A-9D06FBF22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AAA9E-3213-48A8-B644-397CA3160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EDE6F-EA2A-46DB-80CD-75085CC2B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AE756-8313-42E4-8771-2BA56FDB0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986DD-3EB0-4603-B7C1-6E7E5029D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C644-E86E-415E-8EB2-D6A09F76B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A88CF-69D2-42F9-8438-1CCF3070B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50A0A-575A-408A-8CD6-AEE00838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17474-CC0E-4FD0-95C5-8D30FE2A4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A30C7-D399-488E-A3F5-597F0F75B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D152A-1320-430C-9BC3-F19009061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66C82-940C-4EF1-AAC9-D3B904A77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16707-1744-499E-B59D-750D8F3B9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480A0-0142-45E8-BE4C-27CF06F4B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DF71E-9E68-4054-8436-C4A61C962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DF216-A80E-4A3B-8E78-4F117A73F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0B14-3C56-427C-AE76-6E9DE61A8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67EE0-D590-4DE7-9D1F-1D840589D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B7E6C-146D-4201-B38E-791AE7CB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1818E-8B76-4FF1-B735-7E9BFB89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88105-79D6-4D1D-A7B1-2672F9260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DD6FF-A7AC-4E65-AD0A-419BC0D31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D5DFF-245C-4F5C-94CF-B7B686B0F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D2739-902C-45D2-BFEA-38E04A027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DB4F3-C1C8-490E-B975-87F75CC36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33A12-0E94-43D8-9B33-21BAF583B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DB3DD-4C13-4256-927E-2F1C9DA53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6C71-F8FD-480F-838C-E6FF7C170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08F13-5B8A-47EC-9916-CE442E19E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3966B-CE52-4BC2-917F-CFD27E455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03CDE-0DCC-4B39-89FE-695672650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8F313-5E60-4AA9-B577-075B21D0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9A568-AF51-4555-8BB9-E44E91EF8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80D55-629F-4010-BD8C-8AF3601DB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6EBDC-0ADB-4CB7-950D-3F4FC7BCB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63B1B-AF6D-44B8-A600-AE5BA565D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E9524-15FE-4BB0-AA34-BA2BC63DE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AF5A-E7F8-421B-88FE-A1C1FAC94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D4D5-3B56-4B01-A734-78E51F121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90D7-6DFA-4F92-BD68-4A14E3794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50E7-7C17-40CC-B89F-2B3DEAAF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AEAD-5F63-430D-99BA-F7267DDA5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45712-86A3-4DDE-9B50-FB914874307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38E64-119B-4842-91C9-F99C11B0E024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F2A2E-AFD2-4D55-B724-F577B6FDF2CB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F1FAF-ED18-4BB3-9FFA-EB74189B4B2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151920" y="1447920"/>
            <a:ext cx="8991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0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ff"/>
                </a:solidFill>
                <a:latin typeface="Century Schoolbook"/>
              </a:rPr>
              <a:t>GARIS  PANDUAN LDP  </a:t>
            </a:r>
            <a:endParaRPr b="0" lang="en-US" sz="5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ff"/>
                </a:solidFill>
                <a:latin typeface="Century Schoolbook"/>
              </a:rPr>
              <a:t>SECARA  </a:t>
            </a:r>
            <a:endParaRPr b="0" lang="en-US" sz="5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200" spc="-1" strike="noStrike">
                <a:solidFill>
                  <a:srgbClr val="ffffff"/>
                </a:solidFill>
                <a:latin typeface="Century Schoolbook"/>
              </a:rPr>
              <a:t>SCHOOL-BASED</a:t>
            </a:r>
            <a:r>
              <a:rPr b="0" lang="en-US" sz="6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600"/>
            </a:br>
            <a:r>
              <a:rPr b="1" lang="en-US" sz="3600" spc="-1" strike="noStrike">
                <a:solidFill>
                  <a:srgbClr val="04617b"/>
                </a:solidFill>
                <a:latin typeface="Calibri"/>
                <a:ea typeface="SimSun"/>
              </a:rPr>
              <a:t>5  </a:t>
            </a:r>
            <a:r>
              <a:rPr b="1" lang="en-US" sz="3200" spc="-1" strike="noStrike">
                <a:solidFill>
                  <a:srgbClr val="04617b"/>
                </a:solidFill>
                <a:latin typeface="Calibri"/>
                <a:ea typeface="SimSun"/>
              </a:rPr>
              <a:t>LANGKAH-LANGKAH PELAKSANAAN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76320" y="2057400"/>
          <a:ext cx="8839080" cy="3505320"/>
        </p:xfrm>
        <a:graphic>
          <a:graphicData uri="http://schemas.openxmlformats.org/drawingml/2006/table">
            <a:tbl>
              <a:tblPr/>
              <a:tblGrid>
                <a:gridCol w="990360"/>
                <a:gridCol w="5486400"/>
                <a:gridCol w="23623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Bi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Perkar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Tindaka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</a:tr>
              <a:tr h="281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3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 </a:t>
                      </a:r>
                      <a:r>
                        <a:rPr b="0" lang="ms-MY" sz="3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bentuk 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3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ms-MY" sz="3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watankuasa  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3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ms-MY" sz="3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P Peringkat Sekolah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ms-MY" sz="3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 </a:t>
                      </a:r>
                      <a:r>
                        <a:rPr b="0" i="1" lang="ms-MY" sz="3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Lampiran 1)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3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getua/ Guru 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3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ar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6840" y="1934640"/>
            <a:ext cx="4033800" cy="438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7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  <a:ea typeface="SimSun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152280" y="380880"/>
          <a:ext cx="8763120" cy="6019920"/>
        </p:xfrm>
        <a:graphic>
          <a:graphicData uri="http://schemas.openxmlformats.org/drawingml/2006/table">
            <a:tbl>
              <a:tblPr/>
              <a:tblGrid>
                <a:gridCol w="914400"/>
                <a:gridCol w="5639040"/>
                <a:gridCol w="220968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Bi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Perkar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Tindaka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</a:tr>
              <a:tr h="525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50"/>
                        </a:spcBef>
                        <a:buClr>
                          <a:srgbClr val="0bd0d9"/>
                        </a:buClr>
                        <a:buSzPct val="95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ms-MY" sz="3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 </a:t>
                      </a:r>
                      <a:r>
                        <a:rPr b="0" lang="ms-MY" sz="3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jalankan Kajian    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3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ms-MY" sz="3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perluan pada bulan 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3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ms-MY" sz="3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tember/Oktober 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3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ms-MY" sz="3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i="1" lang="ms-MY" sz="3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mpiran 2a</a:t>
                      </a:r>
                      <a:r>
                        <a:rPr b="0" lang="ms-MY" sz="3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14480">
                        <a:lnSpc>
                          <a:spcPct val="100000"/>
                        </a:lnSpc>
                        <a:spcBef>
                          <a:spcPts val="901"/>
                        </a:spcBef>
                        <a:buClr>
                          <a:srgbClr val="0f6fc6"/>
                        </a:buClr>
                        <a:buSzPct val="85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ms-MY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jalankan analisis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14480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ms-MY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</a:t>
                      </a:r>
                      <a:r>
                        <a:rPr b="0" i="1" lang="ms-MY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Lampiran 2b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14480">
                        <a:lnSpc>
                          <a:spcPct val="100000"/>
                        </a:lnSpc>
                        <a:spcBef>
                          <a:spcPts val="876"/>
                        </a:spcBef>
                        <a:buClr>
                          <a:srgbClr val="0f6fc6"/>
                        </a:buClr>
                        <a:buSzPct val="85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ms-MY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musan analisis</a:t>
                      </a:r>
                      <a:r>
                        <a:rPr b="0" lang="en-US" sz="3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LDP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"/>
          <p:cNvGraphicFramePr/>
          <p:nvPr/>
        </p:nvGraphicFramePr>
        <p:xfrm>
          <a:off x="228600" y="914400"/>
          <a:ext cx="8763120" cy="5630760"/>
        </p:xfrm>
        <a:graphic>
          <a:graphicData uri="http://schemas.openxmlformats.org/drawingml/2006/table">
            <a:tbl>
              <a:tblPr/>
              <a:tblGrid>
                <a:gridCol w="990720"/>
                <a:gridCol w="5111640"/>
                <a:gridCol w="2660760"/>
              </a:tblGrid>
              <a:tr h="13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Bi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Perkar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Tindaka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</a:tr>
              <a:tr h="432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50"/>
                        </a:spcBef>
                        <a:buClr>
                          <a:srgbClr val="0bd0d9"/>
                        </a:buClr>
                        <a:buSzPct val="9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3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0" lang="ms-MY" sz="3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yediakan 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3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ms-MY" sz="3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ancangan Tahunan 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3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ms-MY" sz="3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ursus LDP  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3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ms-MY" sz="3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i="1" lang="ms-MY" sz="3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mpiran 3</a:t>
                      </a:r>
                      <a:r>
                        <a:rPr b="0" lang="ms-MY" sz="3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50"/>
                        </a:spcBef>
                        <a:buClr>
                          <a:srgbClr val="0bd0d9"/>
                        </a:buClr>
                        <a:buSzPct val="9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3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0" lang="ms-MY" sz="3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Menyediakan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3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  </a:t>
                      </a:r>
                      <a:r>
                        <a:rPr b="0" lang="ms-MY" sz="3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perancangan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3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  </a:t>
                      </a:r>
                      <a:r>
                        <a:rPr b="0" lang="ms-MY" sz="3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k</a:t>
                      </a:r>
                      <a:r>
                        <a:rPr b="0" lang="ms-MY" sz="3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wangan dan takwim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LDP*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 buat pada hujung tahun untuk kegunaan tahun berikutny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"/>
          <p:cNvGraphicFramePr/>
          <p:nvPr/>
        </p:nvGraphicFramePr>
        <p:xfrm>
          <a:off x="152280" y="1066680"/>
          <a:ext cx="8839440" cy="4559400"/>
        </p:xfrm>
        <a:graphic>
          <a:graphicData uri="http://schemas.openxmlformats.org/drawingml/2006/table">
            <a:tbl>
              <a:tblPr/>
              <a:tblGrid>
                <a:gridCol w="890640"/>
                <a:gridCol w="5052960"/>
                <a:gridCol w="289584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Bi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Perkar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Tindaka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</a:tr>
              <a:tr h="364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5.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4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klimat JPN/ PPD kepada SULDP</a:t>
                      </a:r>
                      <a:r>
                        <a:rPr b="0" lang="en-US" sz="4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4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4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gawai JPN/ PPD</a:t>
                      </a:r>
                      <a:r>
                        <a:rPr b="0" lang="en-US" sz="4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4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152280" y="762120"/>
          <a:ext cx="8763120" cy="5116320"/>
        </p:xfrm>
        <a:graphic>
          <a:graphicData uri="http://schemas.openxmlformats.org/drawingml/2006/table">
            <a:tbl>
              <a:tblPr/>
              <a:tblGrid>
                <a:gridCol w="914400"/>
                <a:gridCol w="5112000"/>
                <a:gridCol w="2736720"/>
              </a:tblGrid>
              <a:tr h="111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onstantia"/>
                          <a:ea typeface="SimSun"/>
                        </a:rPr>
                        <a:t>Bi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onstantia"/>
                          <a:ea typeface="SimSun"/>
                        </a:rPr>
                        <a:t>Perkar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onstantia"/>
                          <a:ea typeface="SimSun"/>
                        </a:rPr>
                        <a:t>Tindaka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</a:tr>
              <a:tr h="400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nstantia"/>
                          <a:ea typeface="SimSun"/>
                        </a:rPr>
                        <a:t>5.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buClr>
                          <a:srgbClr val="0bd0d9"/>
                        </a:buClr>
                        <a:buSzPct val="9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4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0" lang="ms-MY" sz="4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Mengadakan  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4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  </a:t>
                      </a:r>
                      <a:r>
                        <a:rPr b="0" lang="ms-MY" sz="4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Mesyuarat LDP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4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  </a:t>
                      </a:r>
                      <a:r>
                        <a:rPr b="0" lang="ms-MY" sz="4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peringkat sekolah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buClr>
                          <a:srgbClr val="0bd0d9"/>
                        </a:buClr>
                        <a:buSzPct val="9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4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0" lang="ms-MY" sz="4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Pembahagian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4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  </a:t>
                      </a:r>
                      <a:r>
                        <a:rPr b="0" lang="ms-MY" sz="4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tugas AJK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nstantia"/>
                          <a:ea typeface="SimSun"/>
                        </a:rPr>
                        <a:t>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4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PengetuaGuru Besar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4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SULDP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1" name=""/>
          <p:cNvGraphicFramePr/>
          <p:nvPr/>
        </p:nvGraphicFramePr>
        <p:xfrm>
          <a:off x="152280" y="304920"/>
          <a:ext cx="8458200" cy="6319800"/>
        </p:xfrm>
        <a:graphic>
          <a:graphicData uri="http://schemas.openxmlformats.org/drawingml/2006/table">
            <a:tbl>
              <a:tblPr/>
              <a:tblGrid>
                <a:gridCol w="838080"/>
                <a:gridCol w="5257800"/>
                <a:gridCol w="2362320"/>
              </a:tblGrid>
              <a:tr h="132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Bi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Perkar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Tindaka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</a:tr>
              <a:tr h="499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yediakan Fail untuk dokumentas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ms-MY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l Pengurusa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ms-MY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P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ms-MY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l Dokumen LDP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ms-MY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l Pelaksanaan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ms-MY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P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LDP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4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Penolong SULDP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6840" y="1934640"/>
            <a:ext cx="4033800" cy="438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7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  <a:ea typeface="SimSun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304920" y="685800"/>
          <a:ext cx="8534160" cy="4632480"/>
        </p:xfrm>
        <a:graphic>
          <a:graphicData uri="http://schemas.openxmlformats.org/drawingml/2006/table">
            <a:tbl>
              <a:tblPr/>
              <a:tblGrid>
                <a:gridCol w="838080"/>
                <a:gridCol w="5410080"/>
                <a:gridCol w="2286000"/>
              </a:tblGrid>
              <a:tr h="13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Bi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Perkar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Tindaka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</a:tr>
              <a:tr h="332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5.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ms-MY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yediaka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ms-MY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rtas Kerja LDP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ms-MY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Lampiran 4)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LDP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6840" y="1934640"/>
            <a:ext cx="4033800" cy="438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7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  <a:ea typeface="SimSun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304920" y="228600"/>
          <a:ext cx="8839080" cy="5929200"/>
        </p:xfrm>
        <a:graphic>
          <a:graphicData uri="http://schemas.openxmlformats.org/drawingml/2006/table">
            <a:tbl>
              <a:tblPr/>
              <a:tblGrid>
                <a:gridCol w="1143000"/>
                <a:gridCol w="5257800"/>
                <a:gridCol w="2438280"/>
              </a:tblGrid>
              <a:tr h="75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onstantia"/>
                          <a:ea typeface="SimSun"/>
                        </a:rPr>
                        <a:t>Bi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onstantia"/>
                          <a:ea typeface="SimSun"/>
                        </a:rPr>
                        <a:t>Perkar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onstantia"/>
                          <a:ea typeface="SimSun"/>
                        </a:rPr>
                        <a:t>Tindaka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</a:tr>
              <a:tr h="516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nstantia"/>
                          <a:ea typeface="SimSun"/>
                        </a:rPr>
                        <a:t>5.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3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emohon kelulusa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3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aripada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901"/>
                        </a:spcBef>
                        <a:buClr>
                          <a:srgbClr val="0bd0d9"/>
                        </a:buClr>
                        <a:buSzPct val="9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3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P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901"/>
                        </a:spcBef>
                        <a:buClr>
                          <a:srgbClr val="0bd0d9"/>
                        </a:buClr>
                        <a:buSzPct val="9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3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engetu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901"/>
                        </a:spcBef>
                        <a:buClr>
                          <a:srgbClr val="0bd0d9"/>
                        </a:buClr>
                        <a:buSzPct val="9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3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uru Besar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36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sebulan</a:t>
                      </a:r>
                      <a:r>
                        <a:rPr b="0" lang="ms-MY" sz="3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sebelum LDP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3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ijalankan (</a:t>
                      </a:r>
                      <a:r>
                        <a:rPr b="0" i="1" lang="ms-MY" sz="3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ampiran 5)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ULDP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76176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7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  <a:ea typeface="SimSun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380880" y="304920"/>
          <a:ext cx="8382240" cy="5486400"/>
        </p:xfrm>
        <a:graphic>
          <a:graphicData uri="http://schemas.openxmlformats.org/drawingml/2006/table">
            <a:tbl>
              <a:tblPr/>
              <a:tblGrid>
                <a:gridCol w="1005120"/>
                <a:gridCol w="5014800"/>
                <a:gridCol w="2362320"/>
              </a:tblGrid>
              <a:tr h="67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Bi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kar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Tindaka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</a:tr>
              <a:tr h="481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5.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yediakan dan menghantar Pesanan Tempatan kepada PPD/Pengetua/Guru Besar </a:t>
                      </a:r>
                      <a:r>
                        <a:rPr b="0" lang="ms-MY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ua minggu</a:t>
                      </a:r>
                      <a:r>
                        <a:rPr b="0" lang="ms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ebelum pelaksanaan LDP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takan dokumen-dokumen yang berkaitan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。</a:t>
                      </a:r>
                      <a:r>
                        <a:rPr b="0" lang="ms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o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ms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inan Penyata Bank pembek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ms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inan Sijil Pendaftara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ms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niagaan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SULD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Pembantu Tadbi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76176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7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  <a:ea typeface="SimSun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304920" y="304920"/>
          <a:ext cx="8458200" cy="6324480"/>
        </p:xfrm>
        <a:graphic>
          <a:graphicData uri="http://schemas.openxmlformats.org/drawingml/2006/table">
            <a:tbl>
              <a:tblPr/>
              <a:tblGrid>
                <a:gridCol w="1218960"/>
                <a:gridCol w="4648320"/>
                <a:gridCol w="2590920"/>
              </a:tblGrid>
              <a:tr h="77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Bi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ka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Tindak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</a:tr>
              <a:tr h="554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5.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jalankan Kursus / Pemantauan / Penilai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ms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laksanaan (Pr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yediakan perkara-perkara yang berkenaan deng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ms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at jemputan penceramah &amp;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ms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at Panggilan Peserta (gun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i="1" lang="ms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terhead  PPD </a:t>
                      </a:r>
                      <a:r>
                        <a:rPr b="0" lang="ms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tuk sekolah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ms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kan PTJ / letterhead sekolah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ms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tuk sekolah PTJ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SULD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603360"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17b"/>
                </a:solidFill>
                <a:latin typeface="Constantia"/>
                <a:ea typeface="SimSun"/>
              </a:rPr>
              <a:t>GARIS PANDUAN PELAKSANAA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  <a:ea typeface="SimSu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  <a:ea typeface="SimSun"/>
              </a:rPr>
              <a:t>LATIHAN DALAM PERKHIDMATAN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  <a:ea typeface="SimSun"/>
              </a:rPr>
              <a:t>SECARA </a:t>
            </a:r>
            <a:r>
              <a:rPr b="1" i="1" lang="en-US" sz="2800" spc="-1" strike="noStrike">
                <a:solidFill>
                  <a:srgbClr val="000000"/>
                </a:solidFill>
                <a:latin typeface="Constantia"/>
                <a:ea typeface="SimSun"/>
              </a:rPr>
              <a:t>SCHOOL-BASE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  <a:ea typeface="SimSu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  <a:ea typeface="SimSun"/>
              </a:rPr>
              <a:t>TAHUN  2009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  <a:ea typeface="SimSun"/>
              </a:rPr>
              <a:t>---------------------------------------------------------------------------------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17b"/>
                </a:solidFill>
                <a:latin typeface="Constantia"/>
                <a:ea typeface="SimSun"/>
              </a:rPr>
              <a:t>PENGENALA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lnSpc>
                <a:spcPct val="8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800" spc="-1" strike="noStrike">
                <a:solidFill>
                  <a:srgbClr val="000000"/>
                </a:solidFill>
                <a:latin typeface="Constantia"/>
                <a:ea typeface="SimSun"/>
              </a:rPr>
              <a:t>Mesyuarat Profesional KPM Bil. 7/2007 bertarikh 21 November 2007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lnSpc>
                <a:spcPct val="8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800" spc="-1" strike="noStrike">
                <a:solidFill>
                  <a:srgbClr val="000000"/>
                </a:solidFill>
                <a:latin typeface="Constantia"/>
                <a:ea typeface="SimSun"/>
              </a:rPr>
              <a:t>Semua Pegawai Perkhidmatan Pendidikan, KPM, diperlukan mengikuti kursus </a:t>
            </a:r>
            <a:r>
              <a:rPr b="1" lang="ms-MY" sz="2800" spc="-1" strike="noStrike">
                <a:solidFill>
                  <a:srgbClr val="ff0000"/>
                </a:solidFill>
                <a:latin typeface="Constantia"/>
                <a:ea typeface="SimSun"/>
              </a:rPr>
              <a:t>sekurang-kurangnya tujuh hari setahun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  <a:ea typeface="SimSu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76176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7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  <a:ea typeface="SimSun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380880" y="304920"/>
          <a:ext cx="8382240" cy="6318000"/>
        </p:xfrm>
        <a:graphic>
          <a:graphicData uri="http://schemas.openxmlformats.org/drawingml/2006/table">
            <a:tbl>
              <a:tblPr/>
              <a:tblGrid>
                <a:gridCol w="1005120"/>
                <a:gridCol w="4464000"/>
                <a:gridCol w="2913120"/>
              </a:tblGrid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Bi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ka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Tindak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</a:tr>
              <a:tr h="569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5.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9040" indent="-419040"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ghantaran Borang Senarai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19040" indent="-419040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ak Pengurusan Kewanga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19040" indent="-419040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pada PPD/Pengetua/GB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19040" indent="-419040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i="1" lang="ms-MY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mpiran 6</a:t>
                      </a: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19040" indent="-419040"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ahan makanan, tempat,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19040" indent="-419040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alata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19040" indent="-419040"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yediaa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19040" indent="-419040"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bd0d9"/>
                        </a:buClr>
                        <a:buSzPct val="9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han edaran kepada  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19040" indent="-419040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sert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19040" indent="-419040"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bd0d9"/>
                        </a:buClr>
                        <a:buSzPct val="95000"/>
                        <a:buFont typeface="Arial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rang profil penceramah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19040" indent="-419040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i="1" lang="ms-MY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Lampiran 7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19040" indent="-419040"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bd0d9"/>
                        </a:buClr>
                        <a:buSzPct val="95000"/>
                        <a:buFont typeface="Arial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rang Profil Peserta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19040" indent="-419040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ms-MY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i="1" lang="ms-MY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Lampiran 8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19040" indent="-419040"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bd0d9"/>
                        </a:buClr>
                        <a:buSzPct val="95000"/>
                        <a:buFont typeface="Arial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dual tentatif progra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SULD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Penolong SULD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AJK LD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76176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7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  <a:ea typeface="SimSun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380880" y="304920"/>
          <a:ext cx="8382240" cy="5332320"/>
        </p:xfrm>
        <a:graphic>
          <a:graphicData uri="http://schemas.openxmlformats.org/drawingml/2006/table">
            <a:tbl>
              <a:tblPr/>
              <a:tblGrid>
                <a:gridCol w="1005120"/>
                <a:gridCol w="4464000"/>
                <a:gridCol w="2913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Bi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ka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Tindak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</a:tr>
              <a:tr h="512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5.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laksanaan (Semasa kursu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gisi Borang Profil Peser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gisi Borang Kehadiran Pesert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i="1" lang="ms-M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mpiran 9</a:t>
                      </a: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gisi Borang Penilaian Progra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i="1" lang="ms-M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mpiran 10</a:t>
                      </a: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buat rakaman/fotograf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laksanakan pemantauan kursu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eh Pengetua/GB (</a:t>
                      </a:r>
                      <a:r>
                        <a:rPr b="0" i="1" lang="ms-M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mpiran 11</a:t>
                      </a: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gumpul borang penilai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gumpul Kad Pelaporan Latih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gesahkan Kad Pelapor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ih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Peserta Kurs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AJK LD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Pengetua /G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AJK LD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SULD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Pengetua/G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76176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7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  <a:ea typeface="SimSun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380880" y="304920"/>
          <a:ext cx="8382240" cy="5486400"/>
        </p:xfrm>
        <a:graphic>
          <a:graphicData uri="http://schemas.openxmlformats.org/drawingml/2006/table">
            <a:tbl>
              <a:tblPr/>
              <a:tblGrid>
                <a:gridCol w="1005120"/>
                <a:gridCol w="4464000"/>
                <a:gridCol w="2913120"/>
              </a:tblGrid>
              <a:tr h="67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Bi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ka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Tindak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</a:tr>
              <a:tr h="481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5.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ms-MY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laksanaan (Selepas Kursus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gadakan mesyuarat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i="1" lang="ms-MY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t-morte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asukkan data KMLP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i="1" lang="ms-MY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mpiran 12</a:t>
                      </a: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lengkapkan Senarai Semak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ndungan Fail (</a:t>
                      </a:r>
                      <a:r>
                        <a:rPr b="0" i="1" lang="ms-MY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mpiran 13</a:t>
                      </a: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yediakan sijil (sekali setahu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ganalisis borang penilaian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ursus dan membuat rumusa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Pengetua/G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Penolong SULD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SULD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AJK LD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Penolong SULD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76176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7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  <a:ea typeface="SimSun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380880" y="304920"/>
          <a:ext cx="8382240" cy="5486400"/>
        </p:xfrm>
        <a:graphic>
          <a:graphicData uri="http://schemas.openxmlformats.org/drawingml/2006/table">
            <a:tbl>
              <a:tblPr/>
              <a:tblGrid>
                <a:gridCol w="1005120"/>
                <a:gridCol w="4464000"/>
                <a:gridCol w="2913120"/>
              </a:tblGrid>
              <a:tr h="67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Bi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ka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Tindak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</a:tr>
              <a:tr h="481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5.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poran Kursu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ms-MY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yediakan Pelaporan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ms-MY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ursus selepas selesai 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ms-MY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iap kali kursus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ms-MY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i="1" lang="ms-MY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mpiran 14</a:t>
                      </a:r>
                      <a:r>
                        <a:rPr b="0" lang="ms-MY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ms-MY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ghantar Laporan 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ms-MY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ursus &amp; laporan KMLDP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ms-MY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 JPN/PPD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ms-MY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 kali setahun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ms-MY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April, Julai dan Oktober)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SULD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76176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7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  <a:ea typeface="SimSun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380880" y="1752480"/>
          <a:ext cx="8382240" cy="5038920"/>
        </p:xfrm>
        <a:graphic>
          <a:graphicData uri="http://schemas.openxmlformats.org/drawingml/2006/table">
            <a:tbl>
              <a:tblPr/>
              <a:tblGrid>
                <a:gridCol w="1005120"/>
                <a:gridCol w="1890720"/>
                <a:gridCol w="5486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Bi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wat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Tindak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</a:tr>
              <a:tr h="481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.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getua / Guru Besa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Mempengerusikan mesyuar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Membuat keputusan melaksanaka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  </a:t>
                      </a: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kursu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Memantau perjalanan kursus (setiap kali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  </a:t>
                      </a: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kursus)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Memantau pengurusan kewanga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  </a:t>
                      </a: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kursu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Menurunkan kuasa kepada Penolo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  </a:t>
                      </a: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Kana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  </a:t>
                      </a: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(sekiranya Pengetua / GB tiada di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  </a:t>
                      </a: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sekolah)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0" name=""/>
          <p:cNvSpPr/>
          <p:nvPr/>
        </p:nvSpPr>
        <p:spPr>
          <a:xfrm>
            <a:off x="380880" y="15228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965240" y="1179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" y="38088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371600" y="91440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990720" y="762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0  PERANAN JAWATANKU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76176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7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  <a:ea typeface="SimSun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380880" y="1143000"/>
          <a:ext cx="8382240" cy="5257800"/>
        </p:xfrm>
        <a:graphic>
          <a:graphicData uri="http://schemas.openxmlformats.org/drawingml/2006/table">
            <a:tbl>
              <a:tblPr/>
              <a:tblGrid>
                <a:gridCol w="1005120"/>
                <a:gridCol w="1890720"/>
                <a:gridCol w="5486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Bi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wat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Tindak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</a:tr>
              <a:tr h="478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.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LD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Memberi taklimat tentang garis pandu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  </a:t>
                      </a: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pengoperasian LDP secara </a:t>
                      </a:r>
                      <a:r>
                        <a:rPr b="0" i="1" lang="ms-MY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school-ba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Menyediakan surat pelantikan AJK LD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Menguruskan surat-menyurat LD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Menyediakan minit mesyuara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Memastikan pengurusan fail dikemaskinik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Menyediakan borang-boran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ms-MY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  </a:t>
                      </a:r>
                      <a:r>
                        <a:rPr b="0" i="1" lang="ms-MY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(Lampiran 1– 1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Memastikan pengurusan kewangan kursus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  </a:t>
                      </a: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mengikut prosedur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Menyelaraskan kutipan kad pelapor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  </a:t>
                      </a: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latihan dan salinan sijil kehadir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"/>
          <p:cNvSpPr/>
          <p:nvPr/>
        </p:nvSpPr>
        <p:spPr>
          <a:xfrm>
            <a:off x="380880" y="15228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965240" y="1179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7200" y="38088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371600" y="68580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62120" y="38088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ANAN JAWATAN KU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76176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7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  <a:ea typeface="SimSun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380880" y="1371600"/>
          <a:ext cx="8382240" cy="5257440"/>
        </p:xfrm>
        <a:graphic>
          <a:graphicData uri="http://schemas.openxmlformats.org/drawingml/2006/table">
            <a:tbl>
              <a:tblPr/>
              <a:tblGrid>
                <a:gridCol w="1005120"/>
                <a:gridCol w="1890720"/>
                <a:gridCol w="5486400"/>
              </a:tblGrid>
              <a:tr h="64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Bi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wat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Tindak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</a:tr>
              <a:tr h="461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.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LD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Membuat perancangan tahunan dan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  </a:t>
                      </a: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kewangan kursu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Menyediakan laporan kursus da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  </a:t>
                      </a: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laporan KMLDP mengikut ketetapa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  </a:t>
                      </a: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BP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Menghantar laporan kursus dan lapora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  </a:t>
                      </a: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KMLD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(3 kali setahun – April, Julai,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  </a:t>
                      </a: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Oktober)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"/>
          <p:cNvSpPr/>
          <p:nvPr/>
        </p:nvSpPr>
        <p:spPr>
          <a:xfrm>
            <a:off x="380880" y="15228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965240" y="1179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088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371600" y="91440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990720" y="5335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ANAN JAWATANKU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76176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7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  <a:ea typeface="SimSun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380880" y="1371600"/>
          <a:ext cx="8382240" cy="5257440"/>
        </p:xfrm>
        <a:graphic>
          <a:graphicData uri="http://schemas.openxmlformats.org/drawingml/2006/table">
            <a:tbl>
              <a:tblPr/>
              <a:tblGrid>
                <a:gridCol w="1005120"/>
                <a:gridCol w="1890720"/>
                <a:gridCol w="5486400"/>
              </a:tblGrid>
              <a:tr h="64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Bi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wat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Tindak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</a:tr>
              <a:tr h="461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.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olong SULD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Menganalisis data kajian keperlua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  </a:t>
                      </a: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kursus dan rumusa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Membantu menyediakan minit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  </a:t>
                      </a: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mesyuar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Melengkapkan senarai semak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  </a:t>
                      </a: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kandungan fail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  </a:t>
                      </a:r>
                      <a:r>
                        <a:rPr b="0" i="1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(Lampiran 13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Memasukkan data dalam tapak KMLDP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  </a:t>
                      </a: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selepas  setiap kursu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Menyediakan laporan KMLD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" name=""/>
          <p:cNvSpPr/>
          <p:nvPr/>
        </p:nvSpPr>
        <p:spPr>
          <a:xfrm>
            <a:off x="380880" y="15228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965240" y="1179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" y="38088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371600" y="91440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990720" y="762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ANAN JAWATANKU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76176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7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  <a:ea typeface="SimSun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380880" y="990720"/>
          <a:ext cx="8382240" cy="5541840"/>
        </p:xfrm>
        <a:graphic>
          <a:graphicData uri="http://schemas.openxmlformats.org/drawingml/2006/table">
            <a:tbl>
              <a:tblPr/>
              <a:tblGrid>
                <a:gridCol w="1005120"/>
                <a:gridCol w="1890720"/>
                <a:gridCol w="5486400"/>
              </a:tblGrid>
              <a:tr h="60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Bi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wat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Tindak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</a:tr>
              <a:tr h="49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.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KMP / Ketua Panitia Mata Pelajara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0" lang="ms-MY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Menjalankan kajian keperlua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  </a:t>
                      </a:r>
                      <a:r>
                        <a:rPr b="0" lang="ms-MY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kursus bagi panitia masing-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  </a:t>
                      </a:r>
                      <a:r>
                        <a:rPr b="0" lang="ms-MY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mas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0" lang="ms-MY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Menyediakan tempat, makana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  </a:t>
                      </a:r>
                      <a:r>
                        <a:rPr b="0" lang="ms-MY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dan peralat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0" lang="ms-MY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Membuat penilaian kursu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  </a:t>
                      </a:r>
                      <a:r>
                        <a:rPr b="0" lang="ms-MY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panit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0" lang="ms-MY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Menyediakan laporan kursu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  </a:t>
                      </a:r>
                      <a:r>
                        <a:rPr b="0" lang="ms-MY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panit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0" lang="ms-MY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Membuat penilaian kurs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  </a:t>
                      </a:r>
                      <a:r>
                        <a:rPr b="0" lang="ms-MY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panitia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8" name=""/>
          <p:cNvSpPr/>
          <p:nvPr/>
        </p:nvSpPr>
        <p:spPr>
          <a:xfrm>
            <a:off x="380880" y="15228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965240" y="1179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57200" y="38088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371600" y="91440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990720" y="45720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ANAN JAWATANKU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76176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7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  <a:ea typeface="SimSun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380880" y="1371600"/>
          <a:ext cx="8382240" cy="5419800"/>
        </p:xfrm>
        <a:graphic>
          <a:graphicData uri="http://schemas.openxmlformats.org/drawingml/2006/table">
            <a:tbl>
              <a:tblPr/>
              <a:tblGrid>
                <a:gridCol w="1005120"/>
                <a:gridCol w="1890720"/>
                <a:gridCol w="5486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Bi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wat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Tindak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</a:tr>
              <a:tr h="51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.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JK Lain: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unselor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ru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merla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ru </a:t>
                      </a: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Dat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Guru Medi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Kelab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  </a:t>
                      </a: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Guru/Staf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Pembantu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 </a:t>
                      </a: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Tadbir   (Kewanga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0" lang="ms-MY" sz="2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Menjadi Pengacara Majl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0" lang="ms-MY" sz="2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Mendapatkan biodat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  </a:t>
                      </a:r>
                      <a:r>
                        <a:rPr b="0" lang="ms-MY" sz="2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pencerama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0" lang="ms-MY" sz="2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Menguruskan Kad Pelapora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  </a:t>
                      </a:r>
                      <a:r>
                        <a:rPr b="0" lang="ms-MY" sz="2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Latih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0" lang="ms-MY" sz="2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Menyusun tentatif program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0" lang="ms-MY" sz="2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Pendaftaran kehadir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5" name=""/>
          <p:cNvSpPr/>
          <p:nvPr/>
        </p:nvSpPr>
        <p:spPr>
          <a:xfrm>
            <a:off x="380880" y="15228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965240" y="1179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57200" y="38088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371600" y="91440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90720" y="5335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ANAN JAWATANKU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4617b"/>
                </a:solidFill>
                <a:latin typeface="Constantia"/>
                <a:ea typeface="SimSun"/>
              </a:rPr>
              <a:t>     </a:t>
            </a:r>
            <a:r>
              <a:rPr b="1" lang="en-US" sz="2400" spc="-1" strike="noStrike">
                <a:solidFill>
                  <a:srgbClr val="04617b"/>
                </a:solidFill>
                <a:latin typeface="Constantia"/>
                <a:ea typeface="SimSun"/>
              </a:rPr>
              <a:t>2.      DEFINISI LATIHAN GURU SECARA </a:t>
            </a:r>
            <a:r>
              <a:rPr b="1" i="1" lang="en-US" sz="2400" spc="-1" strike="noStrike">
                <a:solidFill>
                  <a:srgbClr val="04617b"/>
                </a:solidFill>
                <a:latin typeface="Constantia"/>
                <a:ea typeface="SimSun"/>
              </a:rPr>
              <a:t>SCHOOL-BAS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lnSpc>
                <a:spcPct val="80000"/>
              </a:lnSpc>
              <a:spcBef>
                <a:spcPts val="1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Constantia"/>
                <a:ea typeface="SimSun"/>
              </a:rPr>
              <a:t>  </a:t>
            </a:r>
            <a:endParaRPr b="0" lang="en-US" sz="5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Constantia"/>
                <a:ea typeface="SimSun"/>
              </a:rPr>
              <a:t>Program latihan ANJURAN SEKOLAH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500" spc="-1" strike="noStrike">
                <a:solidFill>
                  <a:srgbClr val="000000"/>
                </a:solidFill>
                <a:latin typeface="Constantia"/>
                <a:ea typeface="SimSun"/>
              </a:rPr>
              <a:t>	</a:t>
            </a:r>
            <a:r>
              <a:rPr b="1" lang="sv-SE" sz="2500" spc="-1" strike="noStrike">
                <a:solidFill>
                  <a:srgbClr val="000000"/>
                </a:solidFill>
                <a:latin typeface="Constantia"/>
                <a:ea typeface="SimSun"/>
              </a:rPr>
              <a:t>	</a:t>
            </a:r>
            <a:r>
              <a:rPr b="0" lang="sv-SE" sz="2900" spc="-1" strike="noStrike">
                <a:solidFill>
                  <a:srgbClr val="000000"/>
                </a:solidFill>
                <a:latin typeface="Constantia"/>
                <a:ea typeface="SimSun"/>
              </a:rPr>
              <a:t>Aktiviti yang diambil kira: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900" spc="-1" strike="noStrike">
                <a:solidFill>
                  <a:srgbClr val="000000"/>
                </a:solidFill>
                <a:latin typeface="Constantia"/>
                <a:ea typeface="SimSun"/>
              </a:rPr>
              <a:t>	</a:t>
            </a:r>
            <a:r>
              <a:rPr b="0" lang="sv-SE" sz="2900" spc="-1" strike="noStrike">
                <a:solidFill>
                  <a:srgbClr val="000000"/>
                </a:solidFill>
                <a:latin typeface="Constantia"/>
                <a:ea typeface="SimSun"/>
              </a:rPr>
              <a:t>	</a:t>
            </a:r>
            <a:r>
              <a:rPr b="0" lang="sv-SE" sz="2900" spc="-1" strike="noStrike">
                <a:solidFill>
                  <a:srgbClr val="000000"/>
                </a:solidFill>
                <a:latin typeface="Constantia"/>
                <a:ea typeface="SimSun"/>
              </a:rPr>
              <a:t>       </a:t>
            </a:r>
            <a:r>
              <a:rPr b="0" lang="sv-SE" sz="2900" spc="-1" strike="noStrike">
                <a:solidFill>
                  <a:srgbClr val="000000"/>
                </a:solidFill>
                <a:latin typeface="Constantia"/>
                <a:ea typeface="SimSun"/>
              </a:rPr>
              <a:t>** Kursus</a:t>
            </a:r>
            <a:r>
              <a:rPr b="0" lang="sv-SE" sz="2900" spc="-1" strike="noStrike">
                <a:solidFill>
                  <a:srgbClr val="000000"/>
                </a:solidFill>
                <a:latin typeface="Constantia"/>
                <a:ea typeface="SimSun"/>
              </a:rPr>
              <a:t>	</a:t>
            </a:r>
            <a:r>
              <a:rPr b="0" lang="sv-SE" sz="2900" spc="-1" strike="noStrike">
                <a:solidFill>
                  <a:srgbClr val="000000"/>
                </a:solidFill>
                <a:latin typeface="Constantia"/>
                <a:ea typeface="SimSun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900" spc="-1" strike="noStrike">
                <a:solidFill>
                  <a:srgbClr val="000000"/>
                </a:solidFill>
                <a:latin typeface="Constantia"/>
                <a:ea typeface="SimSun"/>
              </a:rPr>
              <a:t>	</a:t>
            </a:r>
            <a:r>
              <a:rPr b="0" lang="sv-SE" sz="2900" spc="-1" strike="noStrike">
                <a:solidFill>
                  <a:srgbClr val="000000"/>
                </a:solidFill>
                <a:latin typeface="Constantia"/>
                <a:ea typeface="SimSun"/>
              </a:rPr>
              <a:t>	</a:t>
            </a:r>
            <a:r>
              <a:rPr b="0" lang="sv-SE" sz="2900" spc="-1" strike="noStrike">
                <a:solidFill>
                  <a:srgbClr val="000000"/>
                </a:solidFill>
                <a:latin typeface="Constantia"/>
                <a:ea typeface="SimSun"/>
              </a:rPr>
              <a:t>       </a:t>
            </a:r>
            <a:r>
              <a:rPr b="0" lang="sv-SE" sz="2900" spc="-1" strike="noStrike">
                <a:solidFill>
                  <a:srgbClr val="000000"/>
                </a:solidFill>
                <a:latin typeface="Constantia"/>
                <a:ea typeface="SimSun"/>
              </a:rPr>
              <a:t>** Bengk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900" spc="-1" strike="noStrike">
                <a:solidFill>
                  <a:srgbClr val="000000"/>
                </a:solidFill>
                <a:latin typeface="Constantia"/>
                <a:ea typeface="SimSun"/>
              </a:rPr>
              <a:t>	</a:t>
            </a:r>
            <a:r>
              <a:rPr b="0" lang="sv-SE" sz="2900" spc="-1" strike="noStrike">
                <a:solidFill>
                  <a:srgbClr val="000000"/>
                </a:solidFill>
                <a:latin typeface="Constantia"/>
                <a:ea typeface="SimSun"/>
              </a:rPr>
              <a:t>          </a:t>
            </a:r>
            <a:r>
              <a:rPr b="0" lang="sv-SE" sz="2900" spc="-1" strike="noStrike">
                <a:solidFill>
                  <a:srgbClr val="000000"/>
                </a:solidFill>
                <a:latin typeface="Constantia"/>
                <a:ea typeface="SimSun"/>
              </a:rPr>
              <a:t>** Seminar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900" spc="-1" strike="noStrike">
                <a:solidFill>
                  <a:srgbClr val="000000"/>
                </a:solidFill>
                <a:latin typeface="Constantia"/>
                <a:ea typeface="SimSun"/>
              </a:rPr>
              <a:t>                 </a:t>
            </a:r>
            <a:r>
              <a:rPr b="0" lang="sv-SE" sz="2900" spc="-1" strike="noStrike">
                <a:solidFill>
                  <a:srgbClr val="000000"/>
                </a:solidFill>
                <a:latin typeface="Constantia"/>
                <a:ea typeface="SimSun"/>
              </a:rPr>
              <a:t>** Hari Profesiona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900" spc="-1" strike="noStrike">
                <a:solidFill>
                  <a:srgbClr val="000000"/>
                </a:solidFill>
                <a:latin typeface="Constantia"/>
                <a:ea typeface="SimSun"/>
              </a:rPr>
              <a:t>                 </a:t>
            </a:r>
            <a:r>
              <a:rPr b="0" lang="sv-SE" sz="2900" spc="-1" strike="noStrike">
                <a:solidFill>
                  <a:srgbClr val="000000"/>
                </a:solidFill>
                <a:latin typeface="Constantia"/>
                <a:ea typeface="SimSun"/>
              </a:rPr>
              <a:t>** Taklimat Profesiona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900" spc="-1" strike="noStrike">
                <a:solidFill>
                  <a:srgbClr val="000000"/>
                </a:solidFill>
                <a:latin typeface="Constantia"/>
                <a:ea typeface="SimSun"/>
              </a:rPr>
              <a:t>                 </a:t>
            </a:r>
            <a:r>
              <a:rPr b="0" lang="sv-SE" sz="2900" spc="-1" strike="noStrike">
                <a:solidFill>
                  <a:srgbClr val="000000"/>
                </a:solidFill>
                <a:latin typeface="Constantia"/>
                <a:ea typeface="SimSun"/>
              </a:rPr>
              <a:t>** Pendedahan </a:t>
            </a:r>
            <a:r>
              <a:rPr b="0" i="1" lang="sv-SE" sz="2900" spc="-1" strike="noStrike">
                <a:solidFill>
                  <a:srgbClr val="000000"/>
                </a:solidFill>
                <a:latin typeface="Constantia"/>
                <a:ea typeface="SimSun"/>
              </a:rPr>
              <a:t>In-house Training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 algn="ctr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Constantia"/>
                <a:ea typeface="SimSun"/>
              </a:rPr>
              <a:t>   </a:t>
            </a:r>
            <a:endParaRPr b="0" lang="en-US" sz="3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76176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7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  <a:ea typeface="SimSun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380880" y="1371600"/>
          <a:ext cx="8382240" cy="5257800"/>
        </p:xfrm>
        <a:graphic>
          <a:graphicData uri="http://schemas.openxmlformats.org/drawingml/2006/table">
            <a:tbl>
              <a:tblPr/>
              <a:tblGrid>
                <a:gridCol w="1005120"/>
                <a:gridCol w="1890720"/>
                <a:gridCol w="5486400"/>
              </a:tblGrid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Bi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wat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Tindak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</a:tr>
              <a:tr h="461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.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Cenderam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Menyediakan sijil kehadiran dan sijil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  </a:t>
                      </a: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pengharga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Menguruskan tempahan makanan, tempa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  </a:t>
                      </a: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dan peralat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Membuat rakaman / dokumenta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Menguruskan kewangan kursus mengiku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  </a:t>
                      </a: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prosedu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Menghantar prestasi kewangan setia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  </a:t>
                      </a: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hujung bul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2" name=""/>
          <p:cNvSpPr/>
          <p:nvPr/>
        </p:nvSpPr>
        <p:spPr>
          <a:xfrm>
            <a:off x="380880" y="15228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965240" y="1179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38088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371600" y="91440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990720" y="45720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ANAN JAWATANKU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ARTA ALIRAN KERJ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lantikan Jawatankuasa LDP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Lampiran 1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laksanaan Kajian Keperlua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Soal selidik untuk semua guru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Lampiran 2a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Analisis keperluan bidang kursus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Lampiran (2b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33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ARTA ALIRAN KERJ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mbuat Perancangan Tahunan (Lampiran 3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.   Taklimat daripada JPN/PP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) Pengedaran Kad Pelaporan Latiha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) Pengedaran Garis Panduan Pelaksanaan LD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syuarat AJK LD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) Agihan bidang tuga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) Diadakan 2 kali setahun (setiap penggal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33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ARTA ALIRAN KERJ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  Dokumentas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) Fail pengurusan LD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) Fail dokumen LD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) Fail pelaksanaan LD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   Kertas Kerj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) Mengisi Borang Kertas Kerja (Lampiran 4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) Melengkapkan dan menghantar Borang Permohonan Kursus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DP (lLampiran 5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) Melengkapkan dan menghantar Senarai Semak Pengurusan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wangan (Lampiran 6)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  Kelulusan PPD/Pengetua/Guru Besa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jalankan kursus selepas mendapat kelulusan PP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untuk sekolah bukan PTJ) atau Pengetua (PTJ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0" y="12952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495360"/>
                <a:tab algn="l" pos="660240"/>
                <a:tab algn="l" pos="825480"/>
                <a:tab algn="l" pos="99072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  <a:tab algn="l" pos="3467160"/>
                <a:tab algn="l" pos="363204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95360"/>
                <a:tab algn="l" pos="660240"/>
                <a:tab algn="l" pos="825480"/>
                <a:tab algn="l" pos="99072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  <a:tab algn="l" pos="3467160"/>
                <a:tab algn="l" pos="3632040"/>
              </a:tabLst>
            </a:pPr>
            <a:r>
              <a:rPr b="1" lang="en-US" sz="3600" spc="-1" strike="noStrike">
                <a:solidFill>
                  <a:srgbClr val="04617b"/>
                </a:solidFill>
                <a:latin typeface="Arial"/>
                <a:ea typeface="SimSun"/>
              </a:rPr>
              <a:t>8.0 </a:t>
            </a:r>
            <a:r>
              <a:rPr b="1" lang="en-US" sz="3600" spc="-1" strike="noStrike">
                <a:solidFill>
                  <a:srgbClr val="04617b"/>
                </a:solidFill>
                <a:latin typeface="Arial"/>
                <a:ea typeface="SimSun"/>
              </a:rPr>
              <a:t>	</a:t>
            </a:r>
            <a:r>
              <a:rPr b="1" lang="en-US" sz="3600" spc="-1" strike="noStrike">
                <a:solidFill>
                  <a:srgbClr val="04617b"/>
                </a:solidFill>
                <a:latin typeface="Arial"/>
                <a:ea typeface="SimSun"/>
              </a:rPr>
              <a:t>DOKUMENTASI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495360"/>
                <a:tab algn="l" pos="660240"/>
                <a:tab algn="l" pos="825480"/>
                <a:tab algn="l" pos="99072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  <a:tab algn="l" pos="3467160"/>
                <a:tab algn="l" pos="3632040"/>
              </a:tabLst>
            </a:pPr>
            <a:r>
              <a:rPr b="1" lang="en-US" sz="2200" spc="-1" strike="noStrike">
                <a:solidFill>
                  <a:srgbClr val="04617b"/>
                </a:solidFill>
                <a:latin typeface="Arial"/>
                <a:ea typeface="SimSun"/>
              </a:rPr>
              <a:t>	</a:t>
            </a:r>
            <a:r>
              <a:rPr b="1" lang="en-US" sz="2200" spc="-1" strike="noStrike">
                <a:solidFill>
                  <a:srgbClr val="04617b"/>
                </a:solidFill>
                <a:latin typeface="Arial"/>
                <a:ea typeface="SimSu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95360"/>
                <a:tab algn="l" pos="660240"/>
                <a:tab algn="l" pos="825480"/>
                <a:tab algn="l" pos="99072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  <a:tab algn="l" pos="3467160"/>
                <a:tab algn="l" pos="3632040"/>
              </a:tabLst>
            </a:pPr>
            <a:r>
              <a:rPr b="1" lang="en-US" sz="2200" spc="-1" strike="noStrike">
                <a:solidFill>
                  <a:srgbClr val="04617b"/>
                </a:solidFill>
                <a:latin typeface="Arial"/>
                <a:ea typeface="SimSun"/>
              </a:rPr>
              <a:t>          </a:t>
            </a:r>
            <a:r>
              <a:rPr b="1" lang="en-US" sz="2800" spc="-1" strike="noStrike">
                <a:solidFill>
                  <a:srgbClr val="04617b"/>
                </a:solidFill>
                <a:latin typeface="Arial"/>
                <a:ea typeface="SimSun"/>
              </a:rPr>
              <a:t>8.1</a:t>
            </a:r>
            <a:r>
              <a:rPr b="1" lang="en-US" sz="2800" spc="-1" strike="noStrike">
                <a:solidFill>
                  <a:srgbClr val="04617b"/>
                </a:solidFill>
                <a:latin typeface="Arial"/>
                <a:ea typeface="SimSun"/>
              </a:rPr>
              <a:t>	</a:t>
            </a:r>
            <a:r>
              <a:rPr b="1" lang="en-US" sz="2800" spc="-1" strike="noStrike">
                <a:solidFill>
                  <a:srgbClr val="04617b"/>
                </a:solidFill>
                <a:latin typeface="Arial"/>
                <a:ea typeface="SimSun"/>
              </a:rPr>
              <a:t>   Pengurusan Fai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495360"/>
                <a:tab algn="l" pos="660240"/>
                <a:tab algn="l" pos="825480"/>
                <a:tab algn="l" pos="99072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  <a:tab algn="l" pos="3467160"/>
                <a:tab algn="l" pos="363204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95360"/>
                <a:tab algn="l" pos="660240"/>
                <a:tab algn="l" pos="825480"/>
                <a:tab algn="l" pos="99072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  <a:tab algn="l" pos="3467160"/>
                <a:tab algn="l" pos="36320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ga jenis fail perlu disediakan iaitu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95360"/>
                <a:tab algn="l" pos="660240"/>
                <a:tab algn="l" pos="825480"/>
                <a:tab algn="l" pos="99072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  <a:tab algn="l" pos="3467160"/>
                <a:tab algn="l" pos="36320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.1.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Fail 1 – Fail Pengurusan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95360"/>
                <a:tab algn="l" pos="660240"/>
                <a:tab algn="l" pos="825480"/>
                <a:tab algn="l" pos="99072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  <a:tab algn="l" pos="3467160"/>
                <a:tab algn="l" pos="363204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sv-SE" sz="2800" spc="-1" strike="noStrike">
                <a:solidFill>
                  <a:srgbClr val="000000"/>
                </a:solidFill>
                <a:latin typeface="Arial"/>
              </a:rPr>
              <a:t>8.1.2  </a:t>
            </a:r>
            <a:r>
              <a:rPr b="1" lang="sv-S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2800" spc="-1" strike="noStrike">
                <a:solidFill>
                  <a:srgbClr val="000000"/>
                </a:solidFill>
                <a:latin typeface="Arial"/>
              </a:rPr>
              <a:t>  Fail 2 – Fail Dokumen LDP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95360"/>
                <a:tab algn="l" pos="660240"/>
                <a:tab algn="l" pos="825480"/>
                <a:tab algn="l" pos="99072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  <a:tab algn="l" pos="3467160"/>
                <a:tab algn="l" pos="3632040"/>
              </a:tabLst>
            </a:pPr>
            <a:r>
              <a:rPr b="1" lang="fi-FI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fi-FI" sz="2800" spc="-1" strike="noStrike">
                <a:solidFill>
                  <a:srgbClr val="000000"/>
                </a:solidFill>
                <a:latin typeface="Arial"/>
              </a:rPr>
              <a:t>8.1.3 </a:t>
            </a:r>
            <a:r>
              <a:rPr b="1" lang="fi-FI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i-FI" sz="2800" spc="-1" strike="noStrike">
                <a:solidFill>
                  <a:srgbClr val="000000"/>
                </a:solidFill>
                <a:latin typeface="Arial"/>
              </a:rPr>
              <a:t>    Fail 3 – Fail Pelaksanaan LD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72880"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17b"/>
                </a:solidFill>
                <a:latin typeface="Arial"/>
                <a:ea typeface="SimSun"/>
              </a:rPr>
              <a:t>8.2</a:t>
            </a:r>
            <a:r>
              <a:rPr b="1" lang="en-US" sz="2800" spc="-1" strike="noStrike">
                <a:solidFill>
                  <a:srgbClr val="04617b"/>
                </a:solidFill>
                <a:latin typeface="Arial"/>
                <a:ea typeface="SimSun"/>
              </a:rPr>
              <a:t>	</a:t>
            </a:r>
            <a:r>
              <a:rPr b="1" lang="en-US" sz="2800" spc="-1" strike="noStrike">
                <a:solidFill>
                  <a:srgbClr val="04617b"/>
                </a:solidFill>
                <a:latin typeface="Arial"/>
                <a:ea typeface="SimSun"/>
              </a:rPr>
              <a:t>Pelapora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lang="fi-FI" sz="2400" spc="-1" strike="noStrike">
                <a:solidFill>
                  <a:srgbClr val="000000"/>
                </a:solidFill>
                <a:latin typeface="Arial"/>
                <a:ea typeface="SimSun"/>
              </a:rPr>
              <a:t>8.2.1</a:t>
            </a:r>
            <a:r>
              <a:rPr b="1" lang="fi-FI" sz="24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lang="fi-FI" sz="2400" spc="-1" strike="noStrike">
                <a:solidFill>
                  <a:srgbClr val="000000"/>
                </a:solidFill>
                <a:latin typeface="Arial"/>
                <a:ea typeface="SimSun"/>
              </a:rPr>
              <a:t>- Pelaporan Kursus LD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lang="fi-FI" sz="24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lang="fi-FI" sz="2400" spc="-1" strike="noStrike">
                <a:solidFill>
                  <a:srgbClr val="000000"/>
                </a:solidFill>
                <a:latin typeface="Arial"/>
                <a:ea typeface="SimSun"/>
              </a:rPr>
              <a:t>8.2.2</a:t>
            </a:r>
            <a:r>
              <a:rPr b="1" lang="fi-FI" sz="24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lang="fi-FI" sz="2400" spc="-1" strike="noStrike">
                <a:solidFill>
                  <a:srgbClr val="000000"/>
                </a:solidFill>
                <a:latin typeface="Arial"/>
                <a:ea typeface="SimSun"/>
              </a:rPr>
              <a:t>- Kad Pelaporan Latiha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fi-FI" sz="24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lang="fi-FI" sz="24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8.2.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- Pelaporan Kursus KMLDP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17b"/>
                </a:solidFill>
                <a:latin typeface="Arial"/>
                <a:ea typeface="SimSun"/>
              </a:rPr>
              <a:t>8.3</a:t>
            </a:r>
            <a:r>
              <a:rPr b="1" lang="en-US" sz="2800" spc="-1" strike="noStrike">
                <a:solidFill>
                  <a:srgbClr val="04617b"/>
                </a:solidFill>
                <a:latin typeface="Arial"/>
                <a:ea typeface="SimSun"/>
              </a:rPr>
              <a:t>	</a:t>
            </a:r>
            <a:r>
              <a:rPr b="1" lang="en-US" sz="2800" spc="-1" strike="noStrike">
                <a:solidFill>
                  <a:srgbClr val="04617b"/>
                </a:solidFill>
                <a:latin typeface="Arial"/>
                <a:ea typeface="SimSun"/>
              </a:rPr>
              <a:t>Pensijilan dan Pengiktirafa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8.3.1  Sijil kehadiran disediakan oleh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pihak sekolah  dan dikeluarkan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setahun sekali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  <a:ea typeface="SimSu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8915400" cy="617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800" spc="-1" strike="noStrike">
                <a:solidFill>
                  <a:srgbClr val="04617b"/>
                </a:solidFill>
                <a:latin typeface="Constantia"/>
                <a:ea typeface="SimSun"/>
              </a:rPr>
              <a:t>	</a:t>
            </a:r>
            <a:r>
              <a:rPr b="1" lang="ms-MY" sz="2800" spc="-1" strike="noStrike">
                <a:solidFill>
                  <a:srgbClr val="04617b"/>
                </a:solidFill>
                <a:latin typeface="Arial"/>
                <a:ea typeface="SimSun"/>
              </a:rPr>
              <a:t>9.0   PEMANTAUAN</a:t>
            </a:r>
            <a:r>
              <a:rPr b="1" lang="ms-MY" sz="2200" spc="-1" strike="noStrike">
                <a:solidFill>
                  <a:srgbClr val="ffff00"/>
                </a:solidFill>
                <a:latin typeface="Arial"/>
                <a:ea typeface="SimSu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200" spc="-1" strike="noStrike">
                <a:solidFill>
                  <a:srgbClr val="ffff00"/>
                </a:solidFill>
                <a:latin typeface="Arial"/>
                <a:ea typeface="SimSun"/>
              </a:rPr>
              <a:t>        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800" spc="-1" strike="noStrike">
                <a:solidFill>
                  <a:srgbClr val="000000"/>
                </a:solidFill>
                <a:latin typeface="Arial"/>
                <a:ea typeface="SimSun"/>
              </a:rPr>
              <a:t>  </a:t>
            </a:r>
            <a:r>
              <a:rPr b="1" lang="ms-MY" sz="2800" spc="-1" strike="noStrike">
                <a:solidFill>
                  <a:srgbClr val="000000"/>
                </a:solidFill>
                <a:latin typeface="Arial"/>
                <a:ea typeface="SimSun"/>
              </a:rPr>
              <a:t>9.1  Instrumen pemantauan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800" spc="-1" strike="noStrike">
                <a:solidFill>
                  <a:srgbClr val="000000"/>
                </a:solidFill>
                <a:latin typeface="Arial"/>
                <a:ea typeface="SimSun"/>
              </a:rPr>
              <a:t>         </a:t>
            </a:r>
            <a:r>
              <a:rPr b="1" lang="ms-MY" sz="2800" spc="-1" strike="noStrike">
                <a:solidFill>
                  <a:srgbClr val="000000"/>
                </a:solidFill>
                <a:latin typeface="Arial"/>
                <a:ea typeface="SimSun"/>
              </a:rPr>
              <a:t>(Lampiran 11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800" spc="-1" strike="noStrike">
                <a:solidFill>
                  <a:srgbClr val="000000"/>
                </a:solidFill>
                <a:latin typeface="Arial"/>
                <a:ea typeface="SimSun"/>
              </a:rPr>
              <a:t>  </a:t>
            </a:r>
            <a:r>
              <a:rPr b="1" lang="ms-MY" sz="2800" spc="-1" strike="noStrike">
                <a:solidFill>
                  <a:srgbClr val="000000"/>
                </a:solidFill>
                <a:latin typeface="Arial"/>
                <a:ea typeface="SimSun"/>
              </a:rPr>
              <a:t>9.2  Pemantau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3" marL="1752480" indent="-380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400" spc="-1" strike="noStrike">
                <a:solidFill>
                  <a:srgbClr val="000000"/>
                </a:solidFill>
                <a:latin typeface="Arial"/>
                <a:ea typeface="SimSun"/>
              </a:rPr>
              <a:t>     </a:t>
            </a:r>
            <a:r>
              <a:rPr b="1" lang="ms-MY" sz="2800" spc="-1" strike="noStrike">
                <a:solidFill>
                  <a:srgbClr val="000000"/>
                </a:solidFill>
                <a:latin typeface="Arial"/>
                <a:ea typeface="SimSun"/>
              </a:rPr>
              <a:t>PP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3" marL="1752480" indent="-380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800" spc="-1" strike="noStrike">
                <a:solidFill>
                  <a:srgbClr val="000000"/>
                </a:solidFill>
                <a:latin typeface="Arial"/>
                <a:ea typeface="SimSun"/>
              </a:rPr>
              <a:t>     </a:t>
            </a:r>
            <a:r>
              <a:rPr b="1" lang="ms-MY" sz="2800" spc="-1" strike="noStrike">
                <a:solidFill>
                  <a:srgbClr val="000000"/>
                </a:solidFill>
                <a:latin typeface="Arial"/>
                <a:ea typeface="SimSun"/>
              </a:rPr>
              <a:t>Pengetu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3" marL="1752480" indent="-380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800" spc="-1" strike="noStrike">
                <a:solidFill>
                  <a:srgbClr val="000000"/>
                </a:solidFill>
                <a:latin typeface="Arial"/>
                <a:ea typeface="SimSun"/>
              </a:rPr>
              <a:t>     </a:t>
            </a:r>
            <a:r>
              <a:rPr b="1" lang="ms-MY" sz="2800" spc="-1" strike="noStrike">
                <a:solidFill>
                  <a:srgbClr val="000000"/>
                </a:solidFill>
                <a:latin typeface="Arial"/>
                <a:ea typeface="SimSun"/>
              </a:rPr>
              <a:t>Guru Besar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456840" y="304920"/>
            <a:ext cx="8001000" cy="594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Arial"/>
                <a:ea typeface="SimSun"/>
              </a:rPr>
              <a:t>Lampira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Lantikan Jawatankuasa LDP peringkat sekola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(SR/SM) - Lampiran 1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Borang Matriks Kajian Keperluan LDP - Lampiran 2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Borang Analisis Matriks Kajian Keperluan LDP - Lampiran 2b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Perancangan Tahunan - Lampiran 3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Kertas kerja LDP peringkat Sekolah - Lampiran 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Borang Pemohonan Kursus LDP - Lampiran 5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Borang Senarai Semak Pengurusan Kewangan - Lampiran 6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228600" y="12189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603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17b"/>
                </a:solidFill>
                <a:latin typeface="Arial"/>
                <a:ea typeface="SimSun"/>
              </a:rPr>
              <a:t>Lampira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Borang Profil Penceramah/Fasilitator - Lampiran 7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Borang Profil Peserta - Lampiran 8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Borang Kehadiran Peserta - Lampiran 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Borang Penilaian Program -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Lampiran 10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Borang Pemantauan LDP- Lampiran 11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Tapak KMLDP-Lampiran 12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Senarai Semak Kandungan Fail LDP- Lampiran 13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Pelaporan Kursus LD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  <a:ea typeface="SimSu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59112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59112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591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91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800" spc="-1" strike="noStrike">
                <a:solidFill>
                  <a:srgbClr val="04617b"/>
                </a:solidFill>
                <a:latin typeface="Constantia"/>
                <a:ea typeface="SimSun"/>
              </a:rPr>
              <a:t>10. KHIDMAT NASIHA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91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400" spc="-1" strike="noStrike">
                <a:solidFill>
                  <a:srgbClr val="000000"/>
                </a:solidFill>
                <a:latin typeface="Constantia"/>
                <a:ea typeface="SimSun"/>
              </a:rPr>
              <a:t>Bahagian Pendidikan Guru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400" spc="-1" strike="noStrike">
                <a:solidFill>
                  <a:srgbClr val="000000"/>
                </a:solidFill>
                <a:latin typeface="Constantia"/>
                <a:ea typeface="SimSun"/>
              </a:rPr>
              <a:t>Kementerian Pelajaran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400" spc="-1" strike="noStrike">
                <a:solidFill>
                  <a:srgbClr val="000000"/>
                </a:solidFill>
                <a:latin typeface="Constantia"/>
                <a:ea typeface="SimSun"/>
              </a:rPr>
              <a:t>Aras 2, Blok E 13, Kompleks Kerajaan Parcel E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400" spc="-1" strike="noStrike">
                <a:solidFill>
                  <a:srgbClr val="000000"/>
                </a:solidFill>
                <a:latin typeface="Constantia"/>
                <a:ea typeface="SimSun"/>
              </a:rPr>
              <a:t>Pusat Pentadbiran Kerajaan Persekutua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400" spc="-1" strike="noStrike">
                <a:solidFill>
                  <a:srgbClr val="000000"/>
                </a:solidFill>
                <a:latin typeface="Constantia"/>
                <a:ea typeface="SimSun"/>
              </a:rPr>
              <a:t>62604 PUTRAJAY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400" spc="-1" strike="noStrike">
                <a:solidFill>
                  <a:srgbClr val="000000"/>
                </a:solidFill>
                <a:latin typeface="Constantia"/>
                <a:ea typeface="SimSun"/>
              </a:rPr>
              <a:t>( U.P. : Unit Kursus Dalam Perkhidmatan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400" spc="-1" strike="noStrike">
                <a:solidFill>
                  <a:srgbClr val="000000"/>
                </a:solidFill>
                <a:latin typeface="Constantia"/>
                <a:ea typeface="SimSun"/>
              </a:rPr>
              <a:t>Tel:  03-88841307 / 03-88841291 , Faks : 03-88893570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400" spc="-1" strike="noStrike">
                <a:solidFill>
                  <a:srgbClr val="000000"/>
                </a:solidFill>
                <a:latin typeface="Constantia"/>
                <a:ea typeface="SimSu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400" spc="-1" strike="noStrike">
                <a:solidFill>
                  <a:srgbClr val="000000"/>
                </a:solidFill>
                <a:latin typeface="Constantia"/>
                <a:ea typeface="SimSun"/>
              </a:rPr>
              <a:t>ATAU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400" spc="-1" strike="noStrike">
                <a:solidFill>
                  <a:srgbClr val="000000"/>
                </a:solidFill>
                <a:latin typeface="Constantia"/>
                <a:ea typeface="SimSun"/>
              </a:rPr>
              <a:t>Jabatan Pelajaran Negeri / Pejabat Pelajaran Gabungan /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400" spc="-1" strike="noStrike">
                <a:solidFill>
                  <a:srgbClr val="000000"/>
                </a:solidFill>
                <a:latin typeface="Constantia"/>
                <a:ea typeface="SimSun"/>
              </a:rPr>
              <a:t>Pejabat Pelajaran Daerah yang berhampira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  <a:ea typeface="SimSu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66960" indent="-243000">
              <a:spcBef>
                <a:spcPts val="10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4100" spc="-1" strike="noStrike">
                <a:solidFill>
                  <a:srgbClr val="000000"/>
                </a:solidFill>
                <a:latin typeface="Constantia"/>
                <a:ea typeface="SimSun"/>
              </a:rPr>
              <a:t>Latihan dijalankan di premis sekolah sendiri kecuali kes beberapa buah sekolah menggabungkan usaha disebabkan bilangan guru yang sedikit. (Sekolah Kurang Murid atau guru-guru panitia)</a:t>
            </a: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  <a:p>
            <a:pPr lvl="2" marL="966960" indent="0">
              <a:spcBef>
                <a:spcPts val="12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onstantia"/>
            </a:endParaRPr>
          </a:p>
          <a:p>
            <a:pPr lvl="1" marL="609480"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166680">
              <a:spcBef>
                <a:spcPts val="1125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4500" spc="-1" strike="noStrike">
                <a:solidFill>
                  <a:srgbClr val="000000"/>
                </a:solidFill>
                <a:latin typeface="Constantia"/>
                <a:ea typeface="SimSun"/>
              </a:rPr>
              <a:t>Kursus jangka pendek dengan mengumpulkan 6 jam dianggap sebagai 1 hari berkursus.</a:t>
            </a:r>
            <a:endParaRPr b="0" lang="en-US" sz="4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800" spc="-1" strike="noStrike">
                <a:solidFill>
                  <a:srgbClr val="04617b"/>
                </a:solidFill>
                <a:latin typeface="Arial"/>
                <a:ea typeface="SimSun"/>
              </a:rPr>
              <a:t>3.   OBJEKTIF</a:t>
            </a:r>
            <a:r>
              <a:rPr b="1" lang="sv-SE" sz="3600" spc="-1" strike="noStrike">
                <a:solidFill>
                  <a:srgbClr val="000000"/>
                </a:solidFill>
                <a:latin typeface="Arial"/>
                <a:ea typeface="SimSu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1" marL="100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1009800" indent="-266760">
              <a:lnSpc>
                <a:spcPct val="80000"/>
              </a:lnSpc>
              <a:spcBef>
                <a:spcPts val="11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4800" spc="-1" strike="noStrike">
                <a:solidFill>
                  <a:srgbClr val="000000"/>
                </a:solidFill>
                <a:latin typeface="Arial"/>
                <a:ea typeface="SimSun"/>
              </a:rPr>
              <a:t>Meningkatkan profesionalisme keguruan.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lvl="1" marL="100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1009800" indent="-266760">
              <a:lnSpc>
                <a:spcPct val="80000"/>
              </a:lnSpc>
              <a:spcBef>
                <a:spcPts val="11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4800" spc="-1" strike="noStrike">
                <a:solidFill>
                  <a:srgbClr val="000000"/>
                </a:solidFill>
                <a:latin typeface="Arial"/>
                <a:ea typeface="SimSun"/>
              </a:rPr>
              <a:t>Mendedahkan guru-guru kepada inovasi terkini dalam bidang pendidikan.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tantia"/>
                <a:ea typeface="SimSu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45880">
              <a:lnSpc>
                <a:spcPct val="100000"/>
              </a:lnSpc>
              <a:spcBef>
                <a:spcPts val="10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4400" spc="-1" strike="noStrike">
                <a:solidFill>
                  <a:srgbClr val="000000"/>
                </a:solidFill>
                <a:latin typeface="Arial"/>
                <a:ea typeface="SimSun"/>
              </a:rPr>
              <a:t>Meningkatkan pengetahuan dan kemahiran profesionalisme keguruan secara berterusan</a:t>
            </a:r>
            <a:r>
              <a:rPr b="1" lang="ms-MY" sz="4000" spc="-1" strike="noStrike">
                <a:solidFill>
                  <a:srgbClr val="000000"/>
                </a:solidFill>
                <a:latin typeface="Arial"/>
                <a:ea typeface="SimSu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45880">
              <a:spcBef>
                <a:spcPts val="10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4000" spc="-1" strike="noStrike">
                <a:solidFill>
                  <a:srgbClr val="04617b"/>
                </a:solidFill>
                <a:latin typeface="Constantia"/>
                <a:ea typeface="SimSun"/>
              </a:rPr>
              <a:t>Mewujudkan dan memantapkan nilai dan amalan profesionalisme keguruan dalam kalangan warga pendidik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10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4000" spc="-1" strike="noStrike">
                <a:solidFill>
                  <a:srgbClr val="04617b"/>
                </a:solidFill>
                <a:latin typeface="Constantia"/>
                <a:ea typeface="SimSun"/>
              </a:rPr>
              <a:t>Memartabatkan profesion keguruan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560520"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560520"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560520"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560520"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Constantia"/>
                <a:ea typeface="SimSun"/>
              </a:rPr>
              <a:t>   </a:t>
            </a:r>
            <a:r>
              <a:rPr b="1" lang="en-US" sz="3200" spc="-1" strike="noStrike">
                <a:solidFill>
                  <a:srgbClr val="04617b"/>
                </a:solidFill>
                <a:latin typeface="Constantia"/>
                <a:ea typeface="SimSun"/>
              </a:rPr>
              <a:t>4. </a:t>
            </a:r>
            <a:r>
              <a:rPr b="1" lang="en-US" sz="2000" spc="-1" strike="noStrike">
                <a:solidFill>
                  <a:srgbClr val="04617b"/>
                </a:solidFill>
                <a:latin typeface="Constantia"/>
                <a:ea typeface="SimSun"/>
              </a:rPr>
              <a:t>    </a:t>
            </a:r>
            <a:r>
              <a:rPr b="1" lang="en-US" sz="3200" spc="-1" strike="noStrike">
                <a:solidFill>
                  <a:srgbClr val="04617b"/>
                </a:solidFill>
                <a:latin typeface="Constantia"/>
                <a:ea typeface="SimSun"/>
              </a:rPr>
              <a:t>BIDANG LATIHAN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60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000000"/>
                </a:solidFill>
                <a:latin typeface="Constantia"/>
                <a:ea typeface="SimSun"/>
              </a:rPr>
              <a:t>            </a:t>
            </a:r>
            <a:r>
              <a:rPr b="1" lang="ms-MY" sz="3600" spc="-1" strike="noStrike">
                <a:solidFill>
                  <a:srgbClr val="04617b"/>
                </a:solidFill>
                <a:latin typeface="Constantia"/>
                <a:ea typeface="SimSun"/>
              </a:rPr>
              <a:t>A.    Pengetahuan Profesionalisme (60%)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560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3600" spc="-1" strike="noStrike">
                <a:solidFill>
                  <a:srgbClr val="04617b"/>
                </a:solidFill>
                <a:latin typeface="Constantia"/>
                <a:ea typeface="SimSun"/>
              </a:rPr>
              <a:t>       </a:t>
            </a:r>
            <a:r>
              <a:rPr b="1" lang="ms-MY" sz="3600" spc="-1" strike="noStrike">
                <a:solidFill>
                  <a:srgbClr val="04617b"/>
                </a:solidFill>
                <a:latin typeface="Constantia"/>
                <a:ea typeface="SimSun"/>
              </a:rPr>
              <a:t>B.    Kemahiran Profesionalisme (20%)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560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3600" spc="-1" strike="noStrike">
                <a:solidFill>
                  <a:srgbClr val="04617b"/>
                </a:solidFill>
                <a:latin typeface="Constantia"/>
                <a:ea typeface="SimSun"/>
              </a:rPr>
              <a:t>       </a:t>
            </a:r>
            <a:r>
              <a:rPr b="1" lang="ms-MY" sz="3600" spc="-1" strike="noStrike">
                <a:solidFill>
                  <a:srgbClr val="04617b"/>
                </a:solidFill>
                <a:latin typeface="Constantia"/>
                <a:ea typeface="SimSun"/>
              </a:rPr>
              <a:t>C.    Nilai dan Amalan Profesionalisme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560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3600" spc="-1" strike="noStrike">
                <a:solidFill>
                  <a:srgbClr val="04617b"/>
                </a:solidFill>
                <a:latin typeface="Constantia"/>
                <a:ea typeface="SimSun"/>
              </a:rPr>
              <a:t>               </a:t>
            </a:r>
            <a:r>
              <a:rPr b="1" lang="ms-MY" sz="3600" spc="-1" strike="noStrike">
                <a:solidFill>
                  <a:srgbClr val="04617b"/>
                </a:solidFill>
                <a:latin typeface="Constantia"/>
                <a:ea typeface="SimSun"/>
              </a:rPr>
              <a:t>Keguruan (20%)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560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111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6052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60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  <a:ea typeface="SimSun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8T14:39:36Z</dcterms:created>
  <dc:creator>DELL</dc:creator>
  <dc:description/>
  <dc:language>en-US</dc:language>
  <cp:lastModifiedBy>KPM</cp:lastModifiedBy>
  <dcterms:modified xsi:type="dcterms:W3CDTF">2009-08-27T04:43:37Z</dcterms:modified>
  <cp:revision>55</cp:revision>
  <dc:subject/>
  <dc:title>JAWATANKUASA KURIKULUM SMK KIDURONG 2009</dc:title>
</cp:coreProperties>
</file>