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F035-371F-44D8-814B-E461C3EE53C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415B-B78E-430F-B93A-8F4C24ECD047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8C48-06B2-45F7-BB5D-283E32B293FE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3157-D395-4851-806D-2507D9574908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3E23-7317-40A5-9194-11CDBCE0EDB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A84-CEA2-4002-8D10-4AB42D135B17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92DD-4102-4305-90F6-8D82138FADA3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ACB9-3F3C-4593-95A5-70CE92DD6F2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A99B-BEC0-4436-9655-7B63F4F44D89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AF6E-1826-4E4A-B1AE-6A8E408DB022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D784-3F2D-483C-B1E2-B19F84D1EB6F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C55-2D14-4253-B5B2-D61DAB326DC3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A0E3-BB8B-4C26-B6A0-BD064278821D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9F3-2FB1-4570-A719-22530110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DA1-999A-4F53-A251-4C2AFF6D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A8F7D-CF5F-41CF-9032-DB55BE52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F971D-2011-472F-9CD1-5994EA55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0DF1B-693F-46C9-B255-4100F5E3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398E7-B962-4EA0-B401-7AA99CF4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843ED-7F00-4CE0-BD67-25639270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FCE7F-5365-416E-B6F1-63571AD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F7A19-5A31-4E5B-8AFD-2E12424B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CC0CB-B783-40B0-BDF2-0EF54216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302CB-2B3F-4D3A-A38D-EA137677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45A1E-FFDE-46B6-8523-835F4BE4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C1E-6FDF-4BF4-B3A9-6080B4C6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7EED8-DC2A-4C4C-BCFB-8FFB4B60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D7F5B-8ADF-4C73-8213-DE95B9E3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37080-E0E0-48FE-BBDA-62F5538C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5A1F1-E2CF-440A-866B-2AB386E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87A2F-7A9D-4D2F-901D-6311B311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6CE02-9B15-4E9F-8632-AB846D6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47F11-0964-493D-A52D-3F6A069A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A630B-794A-4A42-AF37-1845E363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CC3D9-F6C4-4964-917C-EABC8952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10C5A-C7C0-4518-AF9E-A6FC54C3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026-A394-4B58-ABAB-AECC0A52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184B9-CD88-4E98-97EC-616EE35A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A9E56-DCDD-497C-927C-90FB67FC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091E8-1EC3-4EA3-AE64-5AB9DC00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46C60-CC03-4DA8-AC96-3680232F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88B67-B03E-4BC1-9A4D-C980BE75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A6875-3EDB-4AC2-A14C-09766ECC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67F2C-5340-460D-8056-03188AB9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F1F0D-650F-4807-B67E-627116A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F8345-6189-46DA-A768-4E19417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E2FBD-5220-4F4A-9B88-919461F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6D0E-7564-4218-908E-7CB29112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436A6-8925-46E0-81F7-0AC382B4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C011B-3307-4831-85C6-8D41BD82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7CF8A-025E-4E38-A3DC-60D58004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90ABE-B259-4B38-B392-0AC912A3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597C0-83D6-4141-A291-6E4D0F8D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0C853-29C2-4C97-9D0F-C37BE3E9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E3BAA-A1B6-46CB-9A89-C49DE32A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D0813-957E-4344-9A35-A8951FAD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0B645-F8A4-4EAB-99AA-3FB4B5F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9D591-2800-48FF-AA26-5DB279C7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F913-DA08-4555-8DCA-08A25D60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DBDA2-3777-47FD-A064-B6CFBE02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0CDBC-26A3-4FA6-A57C-5E3B723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4F6A9-74EA-4822-9C63-FF65A66D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2BB7E-3E22-4634-BF11-0D63E66E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14C06-E13B-483A-BB20-F8A943DA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61E52-9091-4D3F-8826-71ACDC97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94985-7612-44CC-A9BA-AB445A75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36848-36B3-438E-810D-7C0BED80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42F22-E462-47D0-BE3C-330EDF55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12978-A95E-4D8E-918F-3E5D8A0A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36C4-D8A7-4F32-AAB1-1A388EAA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9BA17-ABC1-4B7A-B7DE-8D8B3D77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04092-4ED8-4265-93F3-108DC4BD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ABA0A-D641-4D71-9F43-8642875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E87D4-2492-4C9B-AF5D-46D10639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50373-C96F-47AE-801C-9F3825AF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95E60-E1E4-487A-93C0-4EBD8875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75068-AF03-4089-B9B0-2DA3EBDB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5D8E1-AC17-438C-A9E5-B78E3892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41B0A-5A7E-49B5-B642-4BDC57F4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6F4A7-2BB8-4B06-9D48-6D2373B8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B9A5-FC15-4B2E-B3A9-D0653961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83E06-6962-452C-9E9C-D767028A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1E4CD-CA6F-4253-BBC0-CCB0AE0A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5691A-4BCA-4E1F-A2BF-7519DBF8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82328-42C6-44A1-9337-4AB90855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84639-8048-4034-86E2-1B763E3D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72A31-4044-43FB-8F4D-4ADE019B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79C4C-45FB-4250-8342-E355EB75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3EEAE-6B9D-45F5-8C79-45C9492F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0C4FF-F01A-45AA-A99B-3829C3B9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7607F-711A-4B93-AC53-E8F32BC1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D660-A883-4B10-AB77-BD8613E7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FF4F6-A95A-4729-BB83-07524426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55559-52E6-48C3-909C-359DD0E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F709F-482A-4772-8178-2646C7CA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E30BE-AAAB-4AA4-A4C4-8803FB6A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59E56-E81B-4468-AFEF-80A4C267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E909B-2DE6-43B2-BD6A-A34AA534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772B4-A2D6-48AA-A9AB-0155049C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82273-A5E6-4DCC-87B3-4591535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24AFC-B88C-45E1-B3D1-8FD1F9D4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75BDE-ED8A-45C4-ADD9-91848BF3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D409-B849-4A9F-972F-A3E7E803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02102A-BB55-4C79-8582-9CB22D70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CCED-FD8D-4F13-B52D-4DEEF032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805-8585-4A7A-B850-FF56AADF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0E60-10BE-4710-BCCC-96E286B2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16A0-DE0B-4F40-BB13-CB895E71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4BE8-BCC5-4775-BFD5-C0EBA2DA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7750-1DE8-4FA6-94A0-E0FDF6CF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F585-5297-45C0-AA04-51900479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F126-EBAA-4809-9C3D-3C04B0F5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0DF42-A81D-4CCC-96CF-BCB18F46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5925-CC37-43D7-BC8F-E40457D0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B1D6-35DE-4594-AD8B-8AA37AD3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2F534-84B8-4F6C-8136-9C53EE72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4BC-886A-4E21-B853-88F8D610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B7DD-31E1-4F5C-9FE9-FD7E0DF2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059F-D374-4A7F-B63D-DD1AC132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5426-96CB-4BEB-B4B7-6BB184C5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2D8A-F181-4B98-9CFA-4F833AE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46294-C8A6-47E3-BCAD-9CD78083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BCAB5-66C9-4E9E-9F3D-7A675BB5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4673-43F0-4D85-AF91-B10D6F91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94EB-8220-44B4-B022-9C71454A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20EE2-C441-4291-B9AB-7BB459C3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8420C-1139-4420-A78B-296653A2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D0F-7EEC-4CA2-A369-0D4D85F0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D1BCD-10BC-4504-8875-98F09E80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B838B-30F3-4F82-BE6D-38E94048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FCEA1-CC7E-4930-9472-F87044CE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4D5B-39D8-4974-BD07-BB8D7604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49DC-FF5C-4D32-B913-0ED22627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D1758-2D1D-498E-8C64-FAA94E64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BC3A-98B3-4C57-B818-F0C39426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DC3E-4470-48ED-8C90-5FEF5509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F82F-5E93-4A5F-9D71-932F0700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2D2CB-1AF1-453F-AE7A-E1DB2BFB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BEB-FA4E-441E-8F91-F64304DF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6393E-C327-4971-A231-EE833BF4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17D3F-3904-4AD9-9E8C-87E655F3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CFA1-DF85-4A14-A9F7-573E2D0A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4C3BA-D919-4102-9A95-969E6EF0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88DA0-8EEA-44BD-8634-B177D3C8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50441-5AA0-4A30-96A5-6E058305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FFCC5-6FC4-4536-B387-3C6E3E0F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C3F9-78BF-48B3-8944-C4CB3E9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4C06-8EBE-447F-9D06-82D4BE55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D2BA-06F6-4F80-A54D-3C022767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82B-9232-4794-A17D-1A732423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A6E3-8AC8-4EAF-A65C-9C5E3E8A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DAE6F-39F3-493A-A556-451BBA15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77E08-5A00-45DE-B028-B14C9712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2DAD8-9D53-40CB-BE31-36507B56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CFF0-F179-40CA-8759-47ECD447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E91EA-975A-4612-8A1F-733EC707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1A9E4-376B-4088-8E7D-5E51AF6F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2088-0505-4BC6-A1E4-E1371055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BF072-47C0-4F4F-8A65-F5CBD63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C7A0-705E-4800-91F9-254A6C19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BDB-D172-4EE3-9E3F-3F7E811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48B83-5A42-495D-BEA4-699097D4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3F7A-7472-474C-B92A-8F0EC022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C4ACC-E7A9-4F1B-AB14-D152151E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11AE5-253D-4BB6-A4C6-74405EBC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6A46B-8AEE-4E57-8681-1A06CE49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EB1D4-029A-4D99-9EEA-8FB6A42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4C716-CE61-47F0-8224-09DDE024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457D1-5602-419F-98D3-CF98F031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FBC01-68A1-4B84-9D16-FB4D31DD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349F4-72D0-4B72-90D2-101F0EBF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EB7-819A-455A-A260-078BABD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B8726-BF69-430C-B2CA-4E294504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0C0BF-EC0F-4469-AB54-C0C73D6D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5720C-A760-4F6E-9C73-4A904FC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1303C-5DFE-41F6-BBC1-4FE60DB7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FD9D1-4283-43EF-9FAB-CED92F4D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66A88-16D3-4757-8B6F-0C20D0AE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9F4E4-72E5-4E2B-A119-17467D28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8F2C-1BCC-45FB-8A2E-07A11DA5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D71E8-3BE4-47E1-A409-A93CED75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2E1A0-195A-4686-9F02-66642F21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5B0-C4D9-450D-99F0-4D7352EE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249B7-D2CD-4616-BA63-C21D8496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0F4DE-F567-4DFA-A382-69612331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8F452-E6D5-4A7A-B877-46242C3A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B6B77-2BF0-4067-8108-71D29C0C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D0B4B-C84B-4AB0-98E0-29AC9CE6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F3D74-F7A7-43A4-87A5-B8D5BBDA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B378B-2615-40D7-ABB1-13A9A461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80E10-BC71-4E31-8D3F-324E1826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5E455-EAFD-4817-8B7F-C5388F87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CF302-D341-4517-9BCC-CDCD739C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9CC5-81E1-4F40-B44A-62779984A9D3}" type="slidenum">
              <a:rPr b="0" lang="en-MY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4B6-7EB5-47B9-A32E-CF5E0A496576}" type="slidenum">
              <a:rPr b="0" lang="en-MY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9B11-0253-40BD-A370-5B99065E0B4F}" type="slidenum">
              <a:rPr b="0" lang="en-MY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82EB-18D2-4361-877E-25C1C0009A1A}" type="slidenum">
              <a:rPr b="0" lang="en-MY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D3BE-5D91-49E7-BBDF-445E10766477}" type="slidenum">
              <a:rPr b="0" lang="en-MY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1F10-7676-413A-8272-E38FA1A938A2}" type="slidenum">
              <a:rPr b="0" lang="en-MY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4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3018-6AEA-444C-A527-37DF26B20907}" type="slidenum">
              <a:rPr b="0" lang="en-MY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8216-F259-4C44-B8C5-A307C0B0F103}" type="slidenum">
              <a:rPr b="0" lang="en-MY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5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AAFE-EA0A-453E-8EC9-EE588D67B17F}" type="slidenum">
              <a:rPr b="0" lang="en-MY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5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B55D-C303-4A3A-AA3E-F15C6986D71F}" type="slidenum">
              <a:rPr b="0" lang="en-MY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3100-AB3A-4E63-94BC-3A78C8E143D3}" type="slidenum">
              <a:rPr b="0" lang="en-MY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E45-0DF6-48A8-8102-CE17C6929835}" type="slidenum">
              <a:rPr b="0" lang="en-MY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4CD0-9D14-4D6C-A712-D124C6FA1F6C}" type="slidenum">
              <a:rPr b="0" lang="en-MY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8209-DFBC-486B-B2A4-04085C72E027}" type="slidenum">
              <a:rPr b="0" lang="en-MY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7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0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62C0-12CB-4AEE-935B-F0CDFEA40776}" type="slidenum">
              <a:rPr b="0" lang="en-MY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Title 1" descr=""/>
          <p:cNvPicPr/>
          <p:nvPr/>
        </p:nvPicPr>
        <p:blipFill>
          <a:blip r:embed="rId1"/>
          <a:stretch/>
        </p:blipFill>
        <p:spPr>
          <a:xfrm>
            <a:off x="1133640" y="1206360"/>
            <a:ext cx="77482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Content Placeholder 4" descr=""/>
          <p:cNvPicPr/>
          <p:nvPr/>
        </p:nvPicPr>
        <p:blipFill>
          <a:blip r:embed="rId1"/>
          <a:stretch/>
        </p:blipFill>
        <p:spPr>
          <a:xfrm>
            <a:off x="420840" y="1285920"/>
            <a:ext cx="8229600" cy="5316480"/>
          </a:xfrm>
          <a:prstGeom prst="rect">
            <a:avLst/>
          </a:prstGeom>
          <a:ln w="0">
            <a:noFill/>
          </a:ln>
        </p:spPr>
      </p:pic>
      <p:pic>
        <p:nvPicPr>
          <p:cNvPr id="69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658040"/>
          </a:xfrm>
          <a:prstGeom prst="rect">
            <a:avLst/>
          </a:prstGeom>
          <a:ln w="0">
            <a:noFill/>
          </a:ln>
        </p:spPr>
      </p:pic>
      <p:pic>
        <p:nvPicPr>
          <p:cNvPr id="700" name="Title 1" descr=""/>
          <p:cNvPicPr/>
          <p:nvPr/>
        </p:nvPicPr>
        <p:blipFill>
          <a:blip r:embed="rId2"/>
          <a:stretch/>
        </p:blipFill>
        <p:spPr>
          <a:xfrm>
            <a:off x="622440" y="281160"/>
            <a:ext cx="8399160" cy="13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Content Placeholder 8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  <p:pic>
        <p:nvPicPr>
          <p:cNvPr id="702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650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ERJASAMA DARI SEMUA PIHA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ESEDIAAN MENERIMA PERUBAH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EFAHAMAN TERHADAP PRINSIP PEMBANGUNAN PROFESIONALISME GURU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EMBANGUNAN PROFESIONAL BERTERUS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Continuous Profesional Development – CPD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ERLU DIPERKEMBANGKAN DEMI MEMARTABATKAN PROFESION PERGURU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0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AKTIVITI: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Latihan kursus dalam perkhidmatan secara berpusat 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Kebaika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kekangan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Content Placeholder 3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877000"/>
          </a:xfrm>
          <a:prstGeom prst="rect">
            <a:avLst/>
          </a:prstGeom>
          <a:ln w="0">
            <a:noFill/>
          </a:ln>
        </p:spPr>
      </p:pic>
      <p:pic>
        <p:nvPicPr>
          <p:cNvPr id="684" name="Rectangle 4" descr=""/>
          <p:cNvPicPr/>
          <p:nvPr/>
        </p:nvPicPr>
        <p:blipFill>
          <a:blip r:embed="rId2"/>
          <a:stretch/>
        </p:blipFill>
        <p:spPr>
          <a:xfrm>
            <a:off x="324000" y="-79200"/>
            <a:ext cx="8351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PERBINCANGAN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akah perbezaan di antara LDP berpusat dengan LDP yang dijalankan di sekolah mulai 2008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688" name="Content Placeholder 4" descr=""/>
          <p:cNvPicPr/>
          <p:nvPr/>
        </p:nvPicPr>
        <p:blipFill>
          <a:blip r:embed="rId2"/>
          <a:stretch/>
        </p:blipFill>
        <p:spPr>
          <a:xfrm>
            <a:off x="384120" y="1725480"/>
            <a:ext cx="83757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Content Placeholder 3" descr=""/>
          <p:cNvPicPr/>
          <p:nvPr/>
        </p:nvPicPr>
        <p:blipFill>
          <a:blip r:embed="rId1"/>
          <a:stretch/>
        </p:blipFill>
        <p:spPr>
          <a:xfrm>
            <a:off x="291960" y="1438200"/>
            <a:ext cx="8602920" cy="4681440"/>
          </a:xfrm>
          <a:prstGeom prst="rect">
            <a:avLst/>
          </a:prstGeom>
          <a:ln w="0">
            <a:noFill/>
          </a:ln>
        </p:spPr>
      </p:pic>
      <p:pic>
        <p:nvPicPr>
          <p:cNvPr id="690" name="Title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Content Placeholder 3" descr=""/>
          <p:cNvPicPr/>
          <p:nvPr/>
        </p:nvPicPr>
        <p:blipFill>
          <a:blip r:embed="rId1"/>
          <a:stretch/>
        </p:blipFill>
        <p:spPr>
          <a:xfrm>
            <a:off x="450720" y="1066680"/>
            <a:ext cx="8242560" cy="5913720"/>
          </a:xfrm>
          <a:prstGeom prst="rect">
            <a:avLst/>
          </a:prstGeom>
          <a:ln w="0">
            <a:noFill/>
          </a:ln>
        </p:spPr>
      </p:pic>
      <p:pic>
        <p:nvPicPr>
          <p:cNvPr id="692" name="Title 1" descr=""/>
          <p:cNvPicPr/>
          <p:nvPr/>
        </p:nvPicPr>
        <p:blipFill>
          <a:blip r:embed="rId2"/>
          <a:stretch/>
        </p:blipFill>
        <p:spPr>
          <a:xfrm>
            <a:off x="493560" y="208080"/>
            <a:ext cx="824256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Content Placeholder 5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515440" cy="4535280"/>
          </a:xfrm>
          <a:prstGeom prst="rect">
            <a:avLst/>
          </a:prstGeom>
          <a:ln w="0">
            <a:noFill/>
          </a:ln>
        </p:spPr>
      </p:pic>
      <p:pic>
        <p:nvPicPr>
          <p:cNvPr id="694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Content Placeholder 3" descr=""/>
          <p:cNvPicPr/>
          <p:nvPr/>
        </p:nvPicPr>
        <p:blipFill>
          <a:blip r:embed="rId1"/>
          <a:stretch/>
        </p:blipFill>
        <p:spPr>
          <a:xfrm>
            <a:off x="450720" y="1450800"/>
            <a:ext cx="8242560" cy="4658040"/>
          </a:xfrm>
          <a:prstGeom prst="rect">
            <a:avLst/>
          </a:prstGeom>
          <a:ln w="0">
            <a:noFill/>
          </a:ln>
        </p:spPr>
      </p:pic>
      <p:pic>
        <p:nvPicPr>
          <p:cNvPr id="69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6:23:40Z</dcterms:created>
  <dc:creator>user</dc:creator>
  <dc:description/>
  <dc:language>en-US</dc:language>
  <cp:lastModifiedBy>KPM</cp:lastModifiedBy>
  <dcterms:modified xsi:type="dcterms:W3CDTF">2009-08-26T15:16:20Z</dcterms:modified>
  <cp:revision>29</cp:revision>
  <dc:subject/>
  <dc:title>PENGENALAN KEPADA  LATIHAN DALAM PERKHIDMATAN (LDP) SECARA SCHOOL-BASED</dc:title>
</cp:coreProperties>
</file>